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D2F-0D5C-4CE6-9CD3-B6297EE3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F01-B039-46B9-ABD6-7125A9F9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27C-9DC5-4E5B-97A4-787187A2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9DC-E551-4309-A416-A5A2D88D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D79-DAB1-4D56-9984-8AF7142B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C90-6740-4334-AB82-41DFDFC7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583-3B6A-426A-91A5-C1212DC5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5EB-7411-45B3-9EA0-A3677FC3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96D-9C11-4C1A-9EDD-0F95F995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AA1-D44C-41AB-9A5E-8C1A3170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07E-C73F-44CA-A47D-C659AACD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837-B1D7-47DA-90F8-B50BD8A6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D777-B93C-489C-AB2E-5604B5C90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514600"/>
            <a:ext cx="1752480" cy="137160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000" y="2746440"/>
            <a:ext cx="11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275904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3521160"/>
            <a:ext cx="136440" cy="13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114800" y="2819520"/>
            <a:ext cx="46080" cy="274680"/>
            <a:chOff x="4114800" y="2819520"/>
            <a:chExt cx="46080" cy="274680"/>
          </a:xfrm>
        </p:grpSpPr>
        <p:grpSp>
          <p:nvGrpSpPr>
            <p:cNvPr id="50" name=""/>
            <p:cNvGrpSpPr/>
            <p:nvPr/>
          </p:nvGrpSpPr>
          <p:grpSpPr>
            <a:xfrm>
              <a:off x="4114800" y="2819520"/>
              <a:ext cx="46080" cy="91440"/>
              <a:chOff x="4114800" y="2819520"/>
              <a:chExt cx="46080" cy="91440"/>
            </a:xfrm>
          </p:grpSpPr>
          <p:sp>
            <p:nvSpPr>
              <p:cNvPr id="51" name=""/>
              <p:cNvSpPr/>
              <p:nvPr/>
            </p:nvSpPr>
            <p:spPr>
              <a:xfrm>
                <a:off x="4114800" y="281952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4114800" y="286524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14800" y="2910960"/>
              <a:ext cx="46080" cy="91440"/>
              <a:chOff x="4114800" y="2910960"/>
              <a:chExt cx="46080" cy="91440"/>
            </a:xfrm>
          </p:grpSpPr>
          <p:sp>
            <p:nvSpPr>
              <p:cNvPr id="54" name=""/>
              <p:cNvSpPr/>
              <p:nvPr/>
            </p:nvSpPr>
            <p:spPr>
              <a:xfrm>
                <a:off x="4114800" y="291096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4114800" y="295668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4114800" y="3002760"/>
              <a:ext cx="46080" cy="91440"/>
              <a:chOff x="4114800" y="3002760"/>
              <a:chExt cx="46080" cy="91440"/>
            </a:xfrm>
          </p:grpSpPr>
          <p:sp>
            <p:nvSpPr>
              <p:cNvPr id="57" name=""/>
              <p:cNvSpPr/>
              <p:nvPr/>
            </p:nvSpPr>
            <p:spPr>
              <a:xfrm>
                <a:off x="4114800" y="300276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114800" y="304848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4114800" y="3306600"/>
            <a:ext cx="46080" cy="274680"/>
            <a:chOff x="4114800" y="3306600"/>
            <a:chExt cx="46080" cy="274680"/>
          </a:xfrm>
        </p:grpSpPr>
        <p:grpSp>
          <p:nvGrpSpPr>
            <p:cNvPr id="60" name=""/>
            <p:cNvGrpSpPr/>
            <p:nvPr/>
          </p:nvGrpSpPr>
          <p:grpSpPr>
            <a:xfrm>
              <a:off x="4114800" y="3306600"/>
              <a:ext cx="46080" cy="91440"/>
              <a:chOff x="4114800" y="3306600"/>
              <a:chExt cx="46080" cy="91440"/>
            </a:xfrm>
          </p:grpSpPr>
          <p:sp>
            <p:nvSpPr>
              <p:cNvPr id="61" name=""/>
              <p:cNvSpPr/>
              <p:nvPr/>
            </p:nvSpPr>
            <p:spPr>
              <a:xfrm>
                <a:off x="4114800" y="330660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114800" y="335232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4114800" y="3398040"/>
              <a:ext cx="46080" cy="91440"/>
              <a:chOff x="4114800" y="3398040"/>
              <a:chExt cx="46080" cy="91440"/>
            </a:xfrm>
          </p:grpSpPr>
          <p:sp>
            <p:nvSpPr>
              <p:cNvPr id="64" name=""/>
              <p:cNvSpPr/>
              <p:nvPr/>
            </p:nvSpPr>
            <p:spPr>
              <a:xfrm>
                <a:off x="4114800" y="339804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4114800" y="344376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114800" y="3489840"/>
              <a:ext cx="46080" cy="91440"/>
              <a:chOff x="4114800" y="3489840"/>
              <a:chExt cx="46080" cy="91440"/>
            </a:xfrm>
          </p:grpSpPr>
          <p:sp>
            <p:nvSpPr>
              <p:cNvPr id="67" name=""/>
              <p:cNvSpPr/>
              <p:nvPr/>
            </p:nvSpPr>
            <p:spPr>
              <a:xfrm>
                <a:off x="4114800" y="348984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4114800" y="3535560"/>
                <a:ext cx="4608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4114800" y="310500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35800" y="2413080"/>
            <a:ext cx="476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n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09160" y="3581280"/>
            <a:ext cx="447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n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22360" y="28036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22360" y="32446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76640" y="316224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2514600"/>
            <a:ext cx="1752480" cy="137160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8920" y="2971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7467480" cy="838080"/>
          </a:xfrm>
          <a:custGeom>
            <a:avLst/>
            <a:gdLst/>
            <a:ahLst/>
            <a:rect l="l" t="t" r="r" b="b"/>
            <a:pathLst>
              <a:path w="4704" h="528">
                <a:moveTo>
                  <a:pt x="4464" y="432"/>
                </a:moveTo>
                <a:lnTo>
                  <a:pt x="4704" y="432"/>
                </a:lnTo>
                <a:lnTo>
                  <a:pt x="4704" y="0"/>
                </a:lnTo>
                <a:lnTo>
                  <a:pt x="0" y="0"/>
                </a:lnTo>
                <a:lnTo>
                  <a:pt x="0" y="528"/>
                </a:lnTo>
                <a:lnTo>
                  <a:pt x="288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981080"/>
            <a:ext cx="7772400" cy="1143000"/>
          </a:xfrm>
          <a:custGeom>
            <a:avLst/>
            <a:gdLst/>
            <a:ahLst/>
            <a:rect l="l" t="t" r="r" b="b"/>
            <a:pathLst>
              <a:path w="4896" h="720">
                <a:moveTo>
                  <a:pt x="4560" y="624"/>
                </a:moveTo>
                <a:lnTo>
                  <a:pt x="4896" y="624"/>
                </a:lnTo>
                <a:lnTo>
                  <a:pt x="4896" y="0"/>
                </a:lnTo>
                <a:lnTo>
                  <a:pt x="0" y="0"/>
                </a:lnTo>
                <a:lnTo>
                  <a:pt x="0" y="672"/>
                </a:lnTo>
                <a:lnTo>
                  <a:pt x="0" y="720"/>
                </a:lnTo>
                <a:lnTo>
                  <a:pt x="384" y="7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53680" y="2549520"/>
            <a:ext cx="4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69880" y="29764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1532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30592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1936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193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200400"/>
            <a:ext cx="1905120" cy="228600"/>
          </a:xfrm>
          <a:custGeom>
            <a:avLst/>
            <a:gdLst/>
            <a:ahLst/>
            <a:rect l="l" t="t" r="r" b="b"/>
            <a:pathLst>
              <a:path w="1200" h="144">
                <a:moveTo>
                  <a:pt x="0" y="0"/>
                </a:moveTo>
                <a:lnTo>
                  <a:pt x="384" y="0"/>
                </a:lnTo>
                <a:lnTo>
                  <a:pt x="384" y="144"/>
                </a:lnTo>
                <a:lnTo>
                  <a:pt x="1200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2971800"/>
            <a:ext cx="129564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lnTo>
                  <a:pt x="0" y="0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2819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4680" y="316080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92480" y="2779560"/>
            <a:ext cx="777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87800" y="354168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63360" y="3205080"/>
            <a:ext cx="5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 0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60120" y="353520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 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60120" y="2590920"/>
            <a:ext cx="5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 1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60120" y="294624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 1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1:26:02Z</dcterms:created>
  <dc:creator>John Bechhoefer</dc:creator>
  <dc:description/>
  <dc:language>en-US</dc:language>
  <cp:lastModifiedBy>John Bechhoefer</cp:lastModifiedBy>
  <cp:lastPrinted>2005-11-27T19:19:09Z</cp:lastPrinted>
  <dcterms:modified xsi:type="dcterms:W3CDTF">2005-11-27T20:16:47Z</dcterms:modified>
  <cp:revision>11</cp:revision>
  <dc:subject/>
  <dc:title>PowerPoint Presentation</dc:title>
</cp:coreProperties>
</file>