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7680" y="6400800"/>
            <a:ext cx="47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CONTROVERSY: Will gun control make us safe? Debunking the my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3520" y="6095880"/>
            <a:ext cx="8001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Myth Number 2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00"/>
                </a:solidFill>
                <a:latin typeface="Times New Roman"/>
              </a:rPr>
              <a:t>Women are the victims of gun violenc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omen are the victims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Homicide in Canada (199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Total homicide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596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Involving a firearm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196 [32%] 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Victim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Male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398  [66%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Female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198  [33%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Spousal homicide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Women killed by conjugal intimate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Women killed by conjugal intimate w/firearm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24</a:t>
            </a:r>
            <a:br>
              <a:rPr sz="1800"/>
            </a:br>
            <a:br>
              <a:rPr sz="1800"/>
            </a:br>
            <a:r>
              <a:rPr b="0" i="1" lang="en-US" sz="1200" spc="-1" strike="noStrike">
                <a:solidFill>
                  <a:srgbClr val="ffffff"/>
                </a:solidFill>
                <a:latin typeface="Palatino"/>
                <a:ea typeface="Times New Roman"/>
              </a:rPr>
              <a:t>Source: Special request, Senator Anne Cools, her testimony to The Supreme Court of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omen are the victims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Homicide in Canada (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Total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5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Involving a firearm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165 [30%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Committed during another criminal offenc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15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Victims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Mal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67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Femal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33% 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Consumed alcohol/drugs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3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Known criminal record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Accu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Consumed alcohol/drugs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Known criminal record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6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Previous conviction for violent offenc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6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Known history of spousal violenc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74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Myth Number 3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00"/>
                </a:solidFill>
                <a:latin typeface="Times New Roman"/>
              </a:rPr>
              <a:t>Gun ownership </a:t>
            </a:r>
            <a:br>
              <a:rPr sz="4800"/>
            </a:br>
            <a:r>
              <a:rPr b="0" i="1" lang="en-US" sz="4800" spc="-1" strike="noStrike">
                <a:solidFill>
                  <a:srgbClr val="ff9900"/>
                </a:solidFill>
                <a:latin typeface="Times New Roman"/>
              </a:rPr>
              <a:t>leads to viole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ownership       violenc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Household Ownership of Fire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Y/TOWN SIZ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GU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A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Over 500,000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 1%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1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10,000 – 499,999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 4%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2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Under 10,000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 6%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4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Mauser and Buckner (199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91440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ownership       violenc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Regional Variations in Violent Crim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(1994)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ADA          RUR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RB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violent crim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,993      9,74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6,2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lving firear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,9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37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5,55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6.2%       3.8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6.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special request, Stats Can Incident-Based Survey [1995]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91440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ownership       violenc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Urban and Rural Firearm Death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in Canada (1991)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Y/TOWN SIZ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ICIDE R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real, Toronto, Vancouv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,000 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,999 – 10,0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,999 – 1,0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than 1,0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Canadian Firearms Centre Report, Urban and Rural Firearm Deaths in Cana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91440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Myth Number 4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00"/>
                </a:solidFill>
                <a:latin typeface="Times New Roman"/>
              </a:rPr>
              <a:t>Guns are not used in </a:t>
            </a:r>
            <a:br>
              <a:rPr sz="4800"/>
            </a:br>
            <a:r>
              <a:rPr b="0" i="1" lang="en-US" sz="4800" spc="-1" strike="noStrike">
                <a:solidFill>
                  <a:srgbClr val="ff9900"/>
                </a:solidFill>
                <a:latin typeface="Times New Roman"/>
              </a:rPr>
              <a:t>self-defence in Canad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s used in self-defenc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274760"/>
            <a:ext cx="71625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Myth Number 5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00"/>
                </a:solidFill>
                <a:latin typeface="Times New Roman"/>
              </a:rPr>
              <a:t>Gun control </a:t>
            </a:r>
            <a:br>
              <a:rPr sz="4800"/>
            </a:br>
            <a:r>
              <a:rPr b="0" i="1" lang="en-US" sz="4800" spc="-1" strike="noStrike">
                <a:solidFill>
                  <a:srgbClr val="ff9900"/>
                </a:solidFill>
                <a:latin typeface="Times New Roman"/>
              </a:rPr>
              <a:t>keeps us saf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80392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3886200"/>
            <a:ext cx="1218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ends in handgun homicides in Canada (rates as percent of gun homicides and total homicid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1389240"/>
            <a:ext cx="640080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History of gun law in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19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handguns regist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197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required a police permit to purchase a firearm [Firearms Acquisition Certificate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ban a large variety of weapons, including fully automatic firea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eliminated protection of property as a legitimate reason for registering handg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introduced penalty for “unsafe storage” of firea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introduced requirements for Firearms and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Ammunition Business Perm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19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registration of semi-automatic military-style rif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ban of converted automatic rif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ban of high-capacity magaz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ban of “non-sporting” ammu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new FAC requirements:  applicants have 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complete the firearm safety cours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Fill out the long application form (35 questions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provide a passport-type photo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obtain two references (one a wife or spous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mandatory 28-day waiting 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increased regulations for firearms dea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specific regulations for safe storage, handling and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transportation of firea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introduction of firearm safety course for FAC applic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prohibition and confiscation of over half of all registered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handguns (so called “Saturday Night Specials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introduction of firearms owners lice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POL – Possession Only Lic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PAL – Possession and Acquisition Lic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new requirements for PAL:  applicants have 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have separate rifle and handgun safety cour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fill out the long application form (35 question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provide a passport-type photo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obtain two references (Plus spouse or former spous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new stricter regulations for safe storage, handling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and transportation of firea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1995 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(continu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regulation of shooting clubs, shooting ranges, and gun sho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new regulations for export and import of firea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broadening of police powers of “search and seizur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suspects of Firearms Act required to testify against themsel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licensing of firearm ow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January 2003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  <a:ea typeface="Times New Roman"/>
              </a:rPr>
              <a:t>All firearms required to be register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299880"/>
            <a:ext cx="609588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Brief Summary of Evaluation Studies of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Canadian Firearms Legisl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Dependent 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Significant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Variable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Eff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Scarff (1983)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Homicide rat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Sproule and Kennett (1988)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Homicide rat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Mundt (1990)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Homicide rat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Mundt (1990)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Armed robbery rat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Mauser and Holmes (1992)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Homicide rat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Mauser and Maki (1998)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Armed robbery rat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Department of Justice (1996)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Homicide rat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4038480"/>
            <a:ext cx="12193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ng 1977 Canadian Gun Legislation: Homicide R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85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4191120"/>
            <a:ext cx="1600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ng 1977 Canadian Gun Legislation: Robbery, Armed Robbery, and Robbery with Firea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346040"/>
            <a:ext cx="586764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US vs. Canada Comparison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08040" y="8240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2560" y="677880"/>
            <a:ext cx="7851960" cy="545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7480" y="1219320"/>
            <a:ext cx="338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rist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"Homicide in 1992" vol.14, No 4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me in the United States199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B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ing the Emperor he has no clot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mark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ademic free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RA and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1th opened 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rorists, not gun ow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398600"/>
            <a:ext cx="77724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3167" r="2336" b="3205"/>
          <a:stretch/>
        </p:blipFill>
        <p:spPr>
          <a:xfrm>
            <a:off x="762120" y="1450800"/>
            <a:ext cx="4952880" cy="47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51055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un control keeps us saf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82436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479520"/>
            <a:ext cx="64771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onclusions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y, aim, f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, aim, rea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and free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ural d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anks to Nora and Ted Ster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Myth Number 1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00"/>
                </a:solidFill>
                <a:latin typeface="Times New Roman"/>
              </a:rPr>
              <a:t>Criminal violence </a:t>
            </a:r>
            <a:br>
              <a:rPr sz="4800"/>
            </a:br>
            <a:r>
              <a:rPr b="0" i="1" lang="en-US" sz="4800" spc="-1" strike="noStrike">
                <a:solidFill>
                  <a:srgbClr val="ff9900"/>
                </a:solidFill>
                <a:latin typeface="Times New Roman"/>
              </a:rPr>
              <a:t>means gun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3020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riminal violence means guns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Violent Crimes (199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TOTAL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  <a:ea typeface="Times New Roman"/>
              </a:rPr>
              <a:t>WITH FIREA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Homicide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596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196 [32%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Attempted murder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918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306 [33%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Assault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236,364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5,959 [3%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Sexual Assault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31,690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50 [&lt; 1%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Other sexual offence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3,812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Abduction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1,130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Robbery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28,888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7,371 [26%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Total violent crimes 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303,398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18,204 [6% of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  <a:ea typeface="Times New Roman"/>
              </a:rPr>
              <a:t>violent crime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riminal violence means guns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Total deaths with firearms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Palatino"/>
                <a:ea typeface="Times New Roman"/>
              </a:rPr>
              <a:t>1,031</a:t>
            </a:r>
            <a:r>
              <a:rPr b="0" lang="en-US" sz="3000" spc="-1" strike="noStrike">
                <a:solidFill>
                  <a:srgbClr val="ffff00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Palatino"/>
                <a:ea typeface="Times New Roman"/>
              </a:rPr>
              <a:t> 100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Suicide with firearm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 818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  7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Murder with firearm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 159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  1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Firearm accident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45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 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Legal intervention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  9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alatino"/>
                <a:ea typeface="Times New Roman"/>
              </a:rPr>
              <a:t>    1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1997 stat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riminal violence means guns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Suicides (199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Times New Roman"/>
              </a:rPr>
              <a:t>Total suicides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Times New Roman"/>
              </a:rPr>
              <a:t>3,6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Times New Roman"/>
              </a:rPr>
              <a:t>Firearms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Times New Roman"/>
              </a:rPr>
              <a:t>818 [22%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riminal violence means guns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"/>
                <a:ea typeface="Times New Roman"/>
              </a:rPr>
              <a:t>Accidental Deaths (199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Total accidental deaths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8,801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Motor vehicles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3,042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Falls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2,6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Surgical/medic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misadventures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19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Firearms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  <a:ea typeface="Times New Roman"/>
              </a:rPr>
              <a:t>45 [1%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18:56:16Z</dcterms:created>
  <dc:creator>Continuing Studies</dc:creator>
  <dc:description/>
  <cp:keywords>mauser controversy sterling guns crime gun control violence</cp:keywords>
  <dc:language>en-US</dc:language>
  <cp:lastModifiedBy>Hobbes</cp:lastModifiedBy>
  <dcterms:modified xsi:type="dcterms:W3CDTF">2001-11-02T23:50:16Z</dcterms:modified>
  <cp:revision>58</cp:revision>
  <dc:subject/>
  <dc:title>PowerPoint Presentation  -  Sterling Prize Presentation</dc:title>
</cp:coreProperties>
</file>