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36F-EE3B-45F3-A693-9AA18849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458-1268-4DE9-8462-750BD17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B79-6EDD-43E7-8A3E-F2C92F5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48A-F0F4-411E-BA05-2446239A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22BB-8CC6-47D3-8DEE-32807D16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C6C4-9E53-4D1F-8B7A-87E6DCFD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A286-92A8-44D0-B1A2-8A04D3E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B06-34BD-4973-A55D-59FFB7F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C29A-2CA7-42C9-94EB-B23DC9F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049-96E1-488B-B6F5-46E692C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D67-C83C-4B3F-8564-6C91A9C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CC7-D1C0-4CA3-9A5D-32145E6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6BC-785A-4EFA-89BA-41F685FB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FEF-A0FF-469F-A383-D3053F1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754-73DE-45AD-8719-BE9A84D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A61A-5CC2-4180-B651-328DCE7E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CCA4-7C71-4798-B5C8-A08BC5DE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6ED-CDE1-403A-8E72-A2A8E09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40F-F91D-4531-9F0A-8272909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51B-A127-47DA-8C3D-902C89C3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607-6F41-4706-99BD-D3A3089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161-EE51-4FF0-A6BF-7160F62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47E-CB1F-4684-93A0-FFD4B199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72E-5C9B-4930-B362-CA5B14D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25D4-8757-4EAC-ACFF-0D5FA84F12DC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F2A3-245F-4DDC-AA00-1A5C47F80F2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Lecture 1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336699"/>
                </a:solidFill>
                <a:latin typeface="Arial Narrow"/>
              </a:rPr>
              <a:t>Advanced Derivative Securiti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lass Organiz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ypes of Pure Derivative Secur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History of Derivative Securities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ore Debacl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ollapse of Long Term Capital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a Hedge Fund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and Hedge Fund Strateg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en Genius Fail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ck Leeson and Barings Ban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Leeson Strateg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ypes of Risks: Operational vs. Mark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 Organiz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view of Course Syllabu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cussion of Course Object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urse Text and Reading Materia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Required Text is “Risk Management, Speculation and Derivative Securities”  (RSD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valuation of Grad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rmation of Group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ypes of Pure Derivative Securit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RSD, Sec. 1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are Derivative Securities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Various possible designs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rward vs. Futures Contrac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ypes of Op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waps and Other Vari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096240" cy="11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he Exchang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 Exchan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hicago Board of Tra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hicago Mercantile Exchang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ffshore Exchan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Europe and East Asia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99"/>
                </a:solidFill>
                <a:latin typeface="Arial"/>
              </a:rPr>
              <a:t>Canadian Trad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Basics of Futures Contract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tract Feat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Standardiz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aily Marking to Mark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Hedgers vs. Speculato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w do Margins Work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Types of Margin Requirem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changes vs. OT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enter of trading activity differs across commodities, exampl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urrenc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i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Eurodolla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blic Policy Issu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novation and Secrec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gulatory Oversigh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istory of Derivative Securiti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: RSD, sec. 1.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Origins in Antiquit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chanics of Trading in Early Marke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Bill of Exchan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rom Antwerp to Amsterdam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nbundling the Embedded Op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Evils of Derivative Secur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Canadian and US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US Histo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ransplanting of European Practic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Origins of the CBO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Distrust of Derivativ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Experience with Op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anadian Histo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Winnipeg Exchange and the Wheat Boar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ecent Derivative Debacl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ading, RSD, sec. 1.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Hunt Silver Cri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echanics of a Short Squeez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Events in the Silver Marke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ortfolio Insurance and the Crash of ‘87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3:51:12Z</dcterms:created>
  <dc:creator>maury poitras</dc:creator>
  <dc:description/>
  <dc:language>en-US</dc:language>
  <cp:lastModifiedBy>Faculty of Business</cp:lastModifiedBy>
  <dcterms:modified xsi:type="dcterms:W3CDTF">2004-11-26T19:04:50Z</dcterms:modified>
  <cp:revision>9</cp:revision>
  <dc:subject/>
  <dc:title>Lecture 3</dc:title>
</cp:coreProperties>
</file>