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289-8506-4F64-A3D7-14787814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48AE-7982-47C3-A352-E3EF1863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9D2-9298-4CD8-89A4-F922C611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A35D-C35E-4915-A7A2-4196DC1E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C278-4577-415C-B3A3-56CE2628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293D-00EC-43A3-A257-207F37E1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0578-52D1-48EF-B187-724BF4D4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B531-BDCB-4CB1-BEA8-1630B556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F0BD-5EC2-4DF1-8654-BCB99B0C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B74F-355A-4EDF-9988-B029CCCD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C4E9-16DE-4483-9DB1-1D85550F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9D4B-49CB-40EC-806D-A26618F6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9821-7BD3-4023-9755-665C9094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FDAC-6DD9-4BC0-B745-D5364739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1D0F-8646-45BB-9712-EBE56E28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847C-1C06-439B-B395-107FCA94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9E41-82E9-4EA2-9B3A-ADDF0C32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CDF7-E99C-4426-AC8B-89C36308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238-FBEB-435B-87A5-60870EA3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A223-A0A5-466C-BEBB-51DE8BBF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44A5-D7F0-48F6-A9FF-B26B9E7C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A67D-7460-40BE-A4B8-B9B686B6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148-5B73-4C42-BFB4-15E44ECC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6D7-DD51-44F2-A3DB-A56EA873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8120"/>
              <a:gd name="textAreaBottom" fmla="*/ 6018480 h 6018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Rectangle 7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AutoShape 8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AutoShape 9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F431-F43A-4F3A-9AAB-22D367FA96DC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8120"/>
              <a:gd name="textAreaBottom" fmla="*/ 6018480 h 6018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Rectangle 8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AutoShape 9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" name="AutoShape 10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3185-AFEC-4FEE-8182-11E3AF8FD8A6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Lecture 1   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BUS 492  </a:t>
            </a:r>
            <a:r>
              <a:rPr b="1" i="1" lang="en-US" sz="4000" spc="-1" strike="noStrike">
                <a:solidFill>
                  <a:srgbClr val="336699"/>
                </a:solidFill>
                <a:latin typeface="Arial Narrow"/>
              </a:rPr>
              <a:t>Risk Managemen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Class Organiza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What is Risk Management?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History of Risk Management and Derivative Securities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Exchanges, OTC and Available Contrac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VEN MORE DEBAC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Sumitomo Copper Manipul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he Long Run for Mr. Hamanaka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hina Aviation Oi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Another rogue trader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maranth Advisors LLC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Regulatory Confus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ypes of Pure Derivative Securit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ading: RSD, Sec. 1.1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are Derivative Securities?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Various possible designs: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orward vs. Futures Contrac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ypes of Option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waps and Other Variation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Free Standing Derivative Securities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ccounting and Derivative Securiti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AS 133 is the primary source of US GAAP rules governing the use and valuation of the common ‘free standing derivative security contracts’: futures, forwards, options, and some types of swap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ccounting plays a fundamental role in revealing the risk management activities of corporations.  Group presentations uncover this information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6096240" cy="110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The Exchanges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US Exchang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Chicago Board of Trade merged with th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Chicago Mercantile Exchange which merged with the NYMEX which merged with the COMEX, etc.  </a:t>
            </a:r>
            <a:r>
              <a:rPr b="0" i="1" lang="en-US" sz="2600" spc="-1" strike="noStrike">
                <a:solidFill>
                  <a:srgbClr val="009999"/>
                </a:solidFill>
                <a:latin typeface="Wingdings"/>
                <a:ea typeface="Wingdings"/>
              </a:rPr>
              <a:t></a:t>
            </a: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 BIG CM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Offshore Exchang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Europe and East Asia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Canadian Trading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changes vs. OT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enter of trading activity differs across commodities, examples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urrencie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Oi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Eurodollar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ublic Policy Issu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nnovation and Secrecy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Regulatory Oversight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Basics of Futures Contracts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ontract Featur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Standardizat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Daily Marking to Marke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Hedgers vs. Speculator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w do Margins Work?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Types of Margin Requirement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 Organiz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Review of Course Syllabu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iscussion of Course Objectiv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urse Text and Reading Material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Required Text is “Risk Management, Speculation and Derivative Securities”  (RSD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valuation of Grad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rmation of Group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What is Risk Management?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140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isk management is a diverse subjec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Areas involving risk management cover medicine, nuclear engineering, national defense and security analysi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thods for managing risk are a necessary adjunct to everyday lif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What is Risk?  </a:t>
            </a:r>
            <a:r>
              <a:rPr b="0" lang="en-US" sz="2600" spc="-1" strike="noStrike">
                <a:solidFill>
                  <a:srgbClr val="0099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 Distinction between risk and uncertainty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Risk Management Decision Problems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nsible approaches to risk management involve, firstly, a corporate risk management philosophy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mposes guidelines on risk management decision-making.</a:t>
            </a:r>
            <a:r>
              <a:rPr b="0" lang="en-US" sz="2800" spc="-1" strike="noStrike">
                <a:solidFill>
                  <a:srgbClr val="0099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what kinds of risks to bear?  what risks to avoid?  what sort of options to consider in managing risks, etc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king Risk Management Decisio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risks to bear?  </a:t>
            </a:r>
            <a:r>
              <a:rPr b="0" lang="en-US" sz="2800" spc="-1" strike="noStrike">
                <a:solidFill>
                  <a:srgbClr val="0099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risks where there is some particular expertise (e.g., risk unique to the particular line of business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risks to avoid ? (e.g., the risk of  a factory burning down). 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risk management philosophy should give  an indication of what attitude to take towards various types of risk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istory of Risk Management and Derivative Securitie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ading: RSD, sec. 1.2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Derivative Securities in Antiquity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chanics of Trading in Early Marke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Bill of Exchang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From Antwerp to Amsterdam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Unbundling the Embedded Op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Evils of Derivative Securiti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Canadian and US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US Histor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ransplanting of European Practice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Origins of the CBOT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he Distrust of Derivative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he Experience with Option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Canadian Histor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he Winnipeg Exchange and the Wheat Board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Recent Derivative Debacle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ading, RSD, sec. 1.3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Hunt Silver Crisi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Mechanics of a Short Squeez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Events in the Silver Market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ortfolio Insurance and the Crash of ‘87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ore Debacle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Collapse of Long Term Capital Managem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is a Hedge Fund?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rivatives and Hedge Fund Strategi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en Genius Faile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ick Leeson and Barings Bank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Leeson Strateg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ypes of Risks: Operational vs. Marke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13:51:12Z</dcterms:created>
  <dc:creator>maury poitras</dc:creator>
  <dc:description/>
  <dc:language>en-US</dc:language>
  <cp:lastModifiedBy> </cp:lastModifiedBy>
  <dcterms:modified xsi:type="dcterms:W3CDTF">2010-08-30T18:40:42Z</dcterms:modified>
  <cp:revision>36</cp:revision>
  <dc:subject/>
  <dc:title>Lecture 3</dc:title>
</cp:coreProperties>
</file>