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5319-A4C7-432A-A9A3-82EF103E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56F5-544E-4FCB-87F2-33F6B41F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C86-3014-4456-9FE6-08401575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6EB-78FB-4AC7-8484-91E021A3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BB3E-687E-4C9A-9C73-269C6ABF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4A9F-DC52-4E7E-BB8B-8CED0591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ECC6-DEB2-4695-9568-31FF80D8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42CC-49D5-40D4-991B-A7028DE4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2AB9-ACB1-4C98-8B7F-5C4B8E89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7C83-38B2-4981-B586-43B9C196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23D5-0914-4634-8196-9CE6818A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2F3-4646-4E4B-9ED0-19DF7788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7D05-8A38-43D2-AF0C-C0CB9B51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FE75-8383-414D-90A9-E66E41A3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766F-139D-4467-B241-24A7F9E0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7880-0D4B-48ED-AE3E-EC51F847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5030-56CC-404A-BA9E-966832FC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A8994-0282-4E5E-9472-BED03FF3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A4865-AF3F-4F3A-A14A-85010286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34C5F-2645-456F-B6D4-F43A0850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F8A36-1079-4E15-B70B-580FB218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C93B7-6BDB-44FE-A4B5-F6D35002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B29C-2198-46B9-9A00-79A6CA4B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92A8B-4A5D-4F63-8C94-614FDDA7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248ED-4333-4609-8B62-64DBE69A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59F02-77B5-46A4-832E-3430BA84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6F32A-70C1-4829-A3D5-472E35AC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EFBB0-EB0E-4B18-A59C-3DD9BA16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698CE-B262-446A-A5A1-FC893FE4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C239C-7AD3-4DB1-A1A2-448256CD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D13-4BF4-4620-BA53-E7176608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4046-6885-40B2-A6C5-C6806FB5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8894-D665-42DA-9FA7-3E6CD508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F18-AB46-4B1E-BB94-1C79CA9B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742-B362-4BE8-83AF-2332B177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FA3F-585C-4BC4-936E-C7E8ADC5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1F3C-BBC6-4A5F-84A1-48C1AEB6AF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868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B9AA-EF8D-4C27-8B96-4DBED8489E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0AEE-CCAB-4596-9EF8-EC57EC24C0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Lecture 8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Review of Option Propertie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finitions and Expiration Date Profit Diagra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ut-Call Parity and Replic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isk Management with Opti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troduction to Black-Schol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Distribution Free Properties of Optio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eading: RSD, p.375-82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ormulas like Black-Scholes are obtained by making a distributional assumption about the random variable determining the option value, e.g., stock pric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istribution free properties apply to all options – irrespective of assumptions about the distribution. 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Distribution Free Properties of Options (cont’d)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me of the distribution free properties are obvious or well known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Property 1 requires prices to be non-negativ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Property 2 is the expiration date values of the call and put option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Property 3 requires the prices of American options to be greater than European options (with the same </a:t>
            </a: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T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Distribution Free Properties of Options (cont’d)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Key Distribution Free Property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Put-Call Parity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For a non-dividend paying stock and options with the same </a:t>
            </a: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X 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S(t) + P(t; X,T) = C(t; X,T) + X e</a:t>
            </a:r>
            <a:r>
              <a:rPr b="0" i="1" lang="en-US" sz="2600" spc="-1" strike="noStrike" baseline="30000">
                <a:solidFill>
                  <a:srgbClr val="009999"/>
                </a:solidFill>
                <a:latin typeface="Arial"/>
              </a:rPr>
              <a:t>-rt*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Like CIP, put-call parity is an arbitrage relationship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Variations of Put-Call Parity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put-call parity relationship can be re-expressed in terms of replic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plicate the stock: 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S(t)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C(t; X,T) + X e</a:t>
            </a:r>
            <a:r>
              <a:rPr b="0" i="1" lang="en-US" sz="2800" spc="-1" strike="noStrike" baseline="30000">
                <a:solidFill>
                  <a:srgbClr val="009999"/>
                </a:solidFill>
                <a:latin typeface="Arial"/>
              </a:rPr>
              <a:t>-rt*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- P(t; X,T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plicate a call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C(t; X,T) = S(t) + P(t) - X e</a:t>
            </a:r>
            <a:r>
              <a:rPr b="0" i="1" lang="en-US" sz="2800" spc="-1" strike="noStrike" baseline="30000">
                <a:solidFill>
                  <a:srgbClr val="009999"/>
                </a:solidFill>
                <a:latin typeface="Arial"/>
              </a:rPr>
              <a:t>-rt*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Variations of Put-Call Parity (cont’d)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eplicate the bond: 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X e</a:t>
            </a:r>
            <a:r>
              <a:rPr b="0" i="1" lang="en-US" sz="2400" spc="-1" strike="noStrike" baseline="30000">
                <a:solidFill>
                  <a:srgbClr val="009999"/>
                </a:solidFill>
                <a:latin typeface="Arial"/>
              </a:rPr>
              <a:t>-rt*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S(t)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C(t; X,T) + P(t; X,T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eplicate the put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P(t; X,T)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C(t; X,T) + X e</a:t>
            </a:r>
            <a:r>
              <a:rPr b="0" i="1" lang="en-US" sz="2400" spc="-1" strike="noStrike" baseline="30000">
                <a:solidFill>
                  <a:srgbClr val="009999"/>
                </a:solidFill>
                <a:latin typeface="Arial"/>
              </a:rPr>
              <a:t>-rt*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 -  S(t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security on the lhs is being replicated by the portfolio on the rh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eading:  RSD, p.393-403, esp. p393-400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Risk Management with Optio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ptions can introduce or offset non-linear elements in firm cash flow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ut Options as insuranc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Traditional Risk Management (Fire, Health, etc.)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Replication Strategi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Path Independent and Dynamic Portfolio Insurance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al Options and Natural Hedg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65" name="Content Placeholder 4"/>
          <p:cNvGraphicFramePr/>
          <p:nvPr/>
        </p:nvGraphicFramePr>
        <p:xfrm>
          <a:off x="838080" y="533520"/>
          <a:ext cx="778824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33520"/>
                    <a:ext cx="778824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he Black-Scholes Formula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BLACK-SCHOLES CALL OPTION FORMULA (the put solution is solved using the put-call parity condition)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C[S,t*;X,r,σ] = C(t) = S(t) N[d</a:t>
            </a:r>
            <a:r>
              <a:rPr b="1" i="1" lang="en-US" sz="24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] - X e</a:t>
            </a:r>
            <a:r>
              <a:rPr b="1" i="1" lang="en-US" sz="2400" spc="-1" strike="noStrike" baseline="30000">
                <a:solidFill>
                  <a:srgbClr val="009999"/>
                </a:solidFill>
                <a:latin typeface="Arial"/>
              </a:rPr>
              <a:t>-rt*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 N[d</a:t>
            </a:r>
            <a:r>
              <a:rPr b="1" i="1" lang="en-US" sz="24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N[d]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is the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umulativ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tandard normal distribution evaluated at the value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nd where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457200" y="4373640"/>
          <a:ext cx="8229600" cy="19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373640"/>
                    <a:ext cx="8229600" cy="19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Solving the Formula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Assume: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S(t)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= $36,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= $40, </a:t>
            </a:r>
            <a:r>
              <a:rPr b="0" lang="en-US" sz="21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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= 3 months </a:t>
            </a:r>
            <a:r>
              <a:rPr b="0" lang="en-US" sz="2100" spc="-1" strike="noStrike">
                <a:solidFill>
                  <a:srgbClr val="009999"/>
                </a:solidFill>
                <a:latin typeface="WP IconicSymbolsA"/>
                <a:ea typeface="WP IconicSymbolsA"/>
              </a:rPr>
              <a:t>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t*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= .25,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= .05, σ = .5.  Both the interest rate and standard deviation are expressed in annualized form.  For sigma, estimating the </a:t>
            </a:r>
            <a:r>
              <a:rPr b="1" lang="en-US" sz="2100" spc="-1" strike="noStrike">
                <a:solidFill>
                  <a:srgbClr val="009999"/>
                </a:solidFill>
                <a:latin typeface="Arial"/>
              </a:rPr>
              <a:t>historical 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standard deviation over the relevant sampling frequency (e.g., weekly) requires annualizing as appropriate.  Given this: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d</a:t>
            </a:r>
            <a:r>
              <a:rPr b="0" i="1" lang="en-US" sz="21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= {ln[36/40] + (.05 + .5(.5)2) .25} / {.5 (</a:t>
            </a:r>
            <a:r>
              <a:rPr b="0" lang="en-US" sz="2100" spc="-1" strike="noStrike">
                <a:solidFill>
                  <a:srgbClr val="009999"/>
                </a:solidFill>
                <a:latin typeface="WP IconicSymbolsA"/>
                <a:ea typeface="WP IconicSymbolsA"/>
              </a:rPr>
              <a:t>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.25)} = -.25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d</a:t>
            </a:r>
            <a:r>
              <a:rPr b="0" i="1" lang="en-US" sz="21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= {ln[36/40] + (.05 - .5(.5)2) .25} / {.5 (</a:t>
            </a:r>
            <a:r>
              <a:rPr b="0" lang="en-US" sz="2100" spc="-1" strike="noStrike">
                <a:solidFill>
                  <a:srgbClr val="009999"/>
                </a:solidFill>
                <a:latin typeface="WP IconicSymbolsA"/>
                <a:ea typeface="WP IconicSymbolsA"/>
              </a:rPr>
              <a:t>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.25)} = -.50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Evaluating the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d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] values: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N[-.25]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= .4013 and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N[-.50]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= .3085 and exp{(.05)(.25)} = .9877, it is possible to solve for the Black-Scholes call option price: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[.4013] -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[.9877] [.3085]  = 14.4468 - 12.1882 = $2.26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Evaluating the Cumulative Normal d.f.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cumulative normal distribution function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N[x]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 provides the area under the normal density function </a:t>
            </a: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n[x]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 at a given point </a:t>
            </a: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x --- 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ntegrate the area under the density function from </a:t>
            </a: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i="1" lang="en-US" sz="2600" spc="-1" strike="noStrike">
                <a:solidFill>
                  <a:srgbClr val="009999"/>
                </a:solidFill>
                <a:latin typeface="WP MathA"/>
                <a:ea typeface="WP MathA"/>
              </a:rPr>
              <a:t></a:t>
            </a: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o</a:t>
            </a: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 x 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o get </a:t>
            </a: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N[x] 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value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e normal density function is sometimes referred to as the bell curve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N[0] = .5     N[+</a:t>
            </a:r>
            <a:r>
              <a:rPr b="0" i="1" lang="en-US" sz="2600" spc="-1" strike="noStrike">
                <a:solidFill>
                  <a:srgbClr val="009999"/>
                </a:solidFill>
                <a:latin typeface="WP MathA"/>
                <a:ea typeface="WP MathA"/>
              </a:rPr>
              <a:t></a:t>
            </a: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] = 1    N[-</a:t>
            </a:r>
            <a:r>
              <a:rPr b="0" i="1" lang="en-US" sz="2600" spc="-1" strike="noStrike">
                <a:solidFill>
                  <a:srgbClr val="009999"/>
                </a:solidFill>
                <a:latin typeface="WP MathA"/>
                <a:ea typeface="WP MathA"/>
              </a:rPr>
              <a:t></a:t>
            </a: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] = 0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e value of </a:t>
            </a: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N[x] 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s the delta for a Black-Scholes call option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Basics of Expiration Date</a:t>
            </a: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 Profit Diagram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se graphs (diagrams) plot the relationship between the </a:t>
            </a: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expiration dat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stock price,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S(T),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nd the profit function, </a:t>
            </a:r>
            <a:r>
              <a:rPr b="0" lang="en-US" sz="28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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(T),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from positions that involve holding an option or combination of option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ecause the option is purchased prior to the expiration date, the profit function will involve an option premium paym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Deriving Black-Scholes:  Basic Element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Black-Scholes (1973) derivation requires some basic concepts (readings in brackets)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Black-Scholes Assumptions (RSD, p.439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riskless hedge portfolio (RSD, p.439-40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to’s Lemma (RSD, p.434-6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Fundamental Partial Differential Equ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he Black-Scholes Assumptio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a) Non-dividend paying stock.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b) European option.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c)  The instantaneously riskless continuous interest rate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is constant over time (with a flat term structure).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d) The model has only </a:t>
            </a:r>
            <a:r>
              <a:rPr b="1" lang="en-US" sz="2100" spc="-1" strike="noStrike">
                <a:solidFill>
                  <a:srgbClr val="009999"/>
                </a:solidFill>
                <a:latin typeface="Arial"/>
              </a:rPr>
              <a:t>one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source of randomness, the single state variable, the price of the stock which follows a log-normal diffusion process.  This log normal process is defined only over S ε [0, </a:t>
            </a:r>
            <a:r>
              <a:rPr b="0" lang="en-US" sz="2100" spc="-1" strike="noStrike">
                <a:solidFill>
                  <a:srgbClr val="009999"/>
                </a:solidFill>
                <a:latin typeface="WP MathA"/>
                <a:ea typeface="WP MathA"/>
              </a:rPr>
              <a:t>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].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e) No transactions costs or taxes.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f) No penalties on short selling.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g) Riskless lending and borrowing at r.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h) Continuous trading.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e)-h) are conventional perfect markets assumptions.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Riskless Hedge Portfolio and Arbitrage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iscussion of pricing for futures and forward contracts used the cash-and-carry arbitrag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iskless hedge portfolio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used in Black-Scholes (1973) predates arbitrage arguments – the riskless hedge portfolio has a net investment of fund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riskless hedge portfolio argument can be reconstructed as an arbitrage portfolio argument where the funds invested in the position are borrow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he Riskless Hedge Portfoli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re is both a long and a short hedge portfolio, the long portfolio combines a long stock position with </a:t>
            </a:r>
            <a:r>
              <a:rPr b="0" i="1" lang="en-US" sz="20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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written call options on the stock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value of this portfolio (</a:t>
            </a: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V)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an be expressed as </a:t>
            </a: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V(t) = S(t) - </a:t>
            </a:r>
            <a:r>
              <a:rPr b="0" i="1" lang="en-US" sz="20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</a:t>
            </a: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 C(t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hedge portfolio condition can be specified as: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457200" y="4419720"/>
          <a:ext cx="822960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419720"/>
                    <a:ext cx="82296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omments on the Hedge Portfolio 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hedge portfolio condition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9999"/>
                </a:solidFill>
                <a:latin typeface="WP MathA"/>
                <a:ea typeface="WP MathA"/>
              </a:rPr>
              <a:t>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V / </a:t>
            </a:r>
            <a:r>
              <a:rPr b="0" i="1" lang="en-US" sz="2400" spc="-1" strike="noStrike">
                <a:solidFill>
                  <a:srgbClr val="009999"/>
                </a:solidFill>
                <a:latin typeface="WP MathA"/>
                <a:ea typeface="WP MathA"/>
              </a:rPr>
              <a:t>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S) = 0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involves the partial derivative with respect to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. Do not confuse this with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dV = 0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s is a riskless hedge portfolio condition because the amount of funds required to purchase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is less than the funds received from selling </a:t>
            </a:r>
            <a:r>
              <a:rPr b="0" lang="en-US" sz="24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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call options, i.e., there is a net investment of funds in the position.  (This violates the requirements for an arbitrage)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number of written calls needed to hedge the portfolio value will change as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change over time.  The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elta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of the call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9999"/>
                </a:solidFill>
                <a:latin typeface="WP MathA"/>
                <a:ea typeface="WP MathA"/>
              </a:rPr>
              <a:t>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C / </a:t>
            </a:r>
            <a:r>
              <a:rPr b="0" i="1" lang="en-US" sz="2400" spc="-1" strike="noStrike">
                <a:solidFill>
                  <a:srgbClr val="009999"/>
                </a:solidFill>
                <a:latin typeface="WP MathA"/>
                <a:ea typeface="WP MathA"/>
              </a:rPr>
              <a:t>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S) = </a:t>
            </a:r>
            <a:r>
              <a:rPr b="0" i="1" lang="en-US" sz="24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</a:t>
            </a:r>
            <a:r>
              <a:rPr b="0" i="1" lang="en-US" sz="2400" spc="-1" strike="noStrike" baseline="-25000">
                <a:solidFill>
                  <a:srgbClr val="009999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rovides this information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Basic Calculus and Stochastic Calculu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nventional calculus deals with deterministic functions,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f[x,y]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, where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ariables are non-random. 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total derivative rule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df[x,y] = (</a:t>
            </a:r>
            <a:r>
              <a:rPr b="0" i="1" lang="en-US" sz="2400" spc="-1" strike="noStrike">
                <a:solidFill>
                  <a:srgbClr val="009999"/>
                </a:solidFill>
                <a:latin typeface="WP MathA"/>
                <a:ea typeface="WP MathA"/>
              </a:rPr>
              <a:t>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f / </a:t>
            </a:r>
            <a:r>
              <a:rPr b="0" i="1" lang="en-US" sz="2400" spc="-1" strike="noStrike">
                <a:solidFill>
                  <a:srgbClr val="009999"/>
                </a:solidFill>
                <a:latin typeface="WP MathA"/>
                <a:ea typeface="WP MathA"/>
              </a:rPr>
              <a:t>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x) dx + (</a:t>
            </a:r>
            <a:r>
              <a:rPr b="0" i="1" lang="en-US" sz="2400" spc="-1" strike="noStrike">
                <a:solidFill>
                  <a:srgbClr val="009999"/>
                </a:solidFill>
                <a:latin typeface="WP MathA"/>
                <a:ea typeface="WP MathA"/>
              </a:rPr>
              <a:t>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f / </a:t>
            </a:r>
            <a:r>
              <a:rPr b="0" i="1" lang="en-US" sz="2400" spc="-1" strike="noStrike">
                <a:solidFill>
                  <a:srgbClr val="009999"/>
                </a:solidFill>
                <a:latin typeface="WP MathA"/>
                <a:ea typeface="WP MathA"/>
              </a:rPr>
              <a:t>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y) d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call price function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C[S,t*;X,r,σ]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ntains the random variable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(Semantics: random = stochastic)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lculus for functions with stochastic variables is more complicated because the process of taking the slope at a point is not possible because the function is not well defined at a point if there is a random component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Ito’s Lemma and Diffusion Processe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to’s Lemma provides the rule for totally differentiating functions of random variables where the randomness is associated with a diffusion process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9999"/>
                </a:solidFill>
                <a:latin typeface="Arial"/>
              </a:rPr>
              <a:t>Ito's Lemma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:  Let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y(x,t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) be a continuous random function with continuous partial derivatives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i="1" lang="en-US" sz="2100" spc="-1" strike="noStrike" baseline="-25000">
                <a:solidFill>
                  <a:srgbClr val="009999"/>
                </a:solidFill>
                <a:latin typeface="Arial"/>
              </a:rPr>
              <a:t>t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, y</a:t>
            </a:r>
            <a:r>
              <a:rPr b="0" i="1" lang="en-US" sz="2100" spc="-1" strike="noStrike" baseline="-25000">
                <a:solidFill>
                  <a:srgbClr val="009999"/>
                </a:solidFill>
                <a:latin typeface="Arial"/>
              </a:rPr>
              <a:t>x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and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i="1" lang="en-US" sz="2100" spc="-1" strike="noStrike" baseline="-25000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2100" spc="-1" strike="noStrike" baseline="-25000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.  If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x(t)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is a random process obeying a diffusion of the form: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dx(t) = a(t) dt + v(t) dW(t)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W(t)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is a standard Wiener process and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a(t)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and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v(t)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are the drift and volatility of the diffusion, then the function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y(t) = y(x(t),t)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also has a differential on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[0,T]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given by: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dy(t) = {y</a:t>
            </a:r>
            <a:r>
              <a:rPr b="0" i="1" lang="en-US" sz="2100" spc="-1" strike="noStrike" baseline="-25000">
                <a:solidFill>
                  <a:srgbClr val="009999"/>
                </a:solidFill>
                <a:latin typeface="Arial"/>
              </a:rPr>
              <a:t>t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 + y</a:t>
            </a:r>
            <a:r>
              <a:rPr b="0" i="1" lang="en-US" sz="2100" spc="-1" strike="noStrike" baseline="-25000">
                <a:solidFill>
                  <a:srgbClr val="009999"/>
                </a:solidFill>
                <a:latin typeface="Arial"/>
              </a:rPr>
              <a:t>x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 a(t) + 1/2 y</a:t>
            </a:r>
            <a:r>
              <a:rPr b="0" i="1" lang="en-US" sz="2100" spc="-1" strike="noStrike" baseline="-25000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2100" spc="-1" strike="noStrike" baseline="-25000">
                <a:solidFill>
                  <a:srgbClr val="009999"/>
                </a:solidFill>
                <a:latin typeface="Arial"/>
              </a:rPr>
              <a:t>x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 v(t)2} dt + y</a:t>
            </a:r>
            <a:r>
              <a:rPr b="0" i="1" lang="en-US" sz="2100" spc="-1" strike="noStrike" baseline="-25000">
                <a:solidFill>
                  <a:srgbClr val="009999"/>
                </a:solidFill>
                <a:latin typeface="Arial"/>
              </a:rPr>
              <a:t>x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 v(t) dW(t)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6699"/>
                </a:solidFill>
                <a:latin typeface="Arial Narrow"/>
              </a:rPr>
              <a:t>Ito’s Lemma for the Call Price Function</a:t>
            </a:r>
            <a:endParaRPr b="1" lang="en-US" sz="3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non-dividend paying stock price is assumed to follow a log-normal diffusion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dS = α S dt + σ S dW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n this case,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a(t) = αS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v(t) = σS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where α and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σ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are constant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functional relationship between the call option price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(C)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nd the stock price takes the form: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C = C[S,t; X]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.  Application of Ito's lemma gives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dC = {C</a:t>
            </a:r>
            <a:r>
              <a:rPr b="0" i="1" lang="en-US" sz="2400" spc="-1" strike="noStrike" baseline="-25000">
                <a:solidFill>
                  <a:srgbClr val="009999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 + C</a:t>
            </a:r>
            <a:r>
              <a:rPr b="0" i="1" lang="en-US" sz="2400" spc="-1" strike="noStrike" baseline="-25000">
                <a:solidFill>
                  <a:srgbClr val="009999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 α S + 1/2 C</a:t>
            </a:r>
            <a:r>
              <a:rPr b="0" i="1" lang="en-US" sz="2400" spc="-1" strike="noStrike" baseline="-25000">
                <a:solidFill>
                  <a:srgbClr val="009999"/>
                </a:solidFill>
                <a:latin typeface="Arial"/>
              </a:rPr>
              <a:t>SS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 σ</a:t>
            </a:r>
            <a:r>
              <a:rPr b="0" i="1" lang="en-US" sz="24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 S</a:t>
            </a:r>
            <a:r>
              <a:rPr b="0" i="1" lang="en-US" sz="24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} dt + {C</a:t>
            </a:r>
            <a:r>
              <a:rPr b="0" i="1" lang="en-US" sz="2400" spc="-1" strike="noStrike" baseline="-25000">
                <a:solidFill>
                  <a:srgbClr val="009999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 σ S} dW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Solving for the Fundamental PDE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The Black-Scholes derivation uses two conditions:  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dV = dS - </a:t>
            </a:r>
            <a:r>
              <a:rPr b="0" i="1" lang="en-US" sz="21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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 dC (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Total Derivative)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dV = (S - </a:t>
            </a:r>
            <a:r>
              <a:rPr b="0" i="1" lang="en-US" sz="21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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 C) r dt  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(Riskless Return Condition)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The first condition can be solved by substituting in: the diffusion equation for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dS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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 = C</a:t>
            </a:r>
            <a:r>
              <a:rPr b="0" i="1" lang="en-US" sz="2100" spc="-1" strike="noStrike" baseline="-25000">
                <a:solidFill>
                  <a:srgbClr val="009999"/>
                </a:solidFill>
                <a:latin typeface="Arial"/>
              </a:rPr>
              <a:t>S 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(from the riskless hedge solution) and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dC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from Ito’s Lemma.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The two conditions are equated and solved to get the </a:t>
            </a:r>
            <a:r>
              <a:rPr b="1" lang="en-US" sz="2100" spc="-1" strike="noStrike">
                <a:solidFill>
                  <a:srgbClr val="009999"/>
                </a:solidFill>
                <a:latin typeface="Arial"/>
              </a:rPr>
              <a:t>fundamental partial differential equation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(PDE) for a European call on a non-dividend paying stock (which is subject to the boundary and terminal conditions of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C[T] = max[0, S-X]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 and </a:t>
            </a:r>
            <a:r>
              <a:rPr b="0" i="1" lang="en-US" sz="2100" spc="-1" strike="noStrike">
                <a:solidFill>
                  <a:srgbClr val="009999"/>
                </a:solidFill>
                <a:latin typeface="Arial"/>
              </a:rPr>
              <a:t>C[S=0] = 0)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609480" y="5181480"/>
          <a:ext cx="82296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181480"/>
                    <a:ext cx="8229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lving the P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Black-Scholes formula is the function that solves the fundamental PDE problem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re are a number of possible methods that can be used to derive this solution – solving PDE’s is an active research area in mathematic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n this class the solution will be verified when the Greeks are being discussed (see RSD, p.497-8). 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(Notice that the fundamental PDE provides a relationship among delta, gamma and theta)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Basics of Expiration Date Diagrams (cont’d)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Warnings about the Diagram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e cash flows in the positions are not accurately represented, e.g., the funds used to long the stock are not incorporated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nterest on the premium over the life of the option is not analyzed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e diagram only takes a valuation on the expiration date into account – this ignores the option time value on the purchase date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Expiration Date Profit Diagrams</a:t>
            </a:r>
            <a:br>
              <a:rPr sz="4000"/>
            </a:b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34" name="Object 7"/>
          <p:cNvGraphicFramePr/>
          <p:nvPr/>
        </p:nvGraphicFramePr>
        <p:xfrm>
          <a:off x="812880" y="1486080"/>
          <a:ext cx="7099200" cy="48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486080"/>
                    <a:ext cx="709920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Replication Trades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      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hort the Put                                      Short the Call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914400" y="2209680"/>
          <a:ext cx="297180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09680"/>
                    <a:ext cx="29718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4952880" y="2362320"/>
          <a:ext cx="2971800" cy="33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2362320"/>
                    <a:ext cx="2971800" cy="33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Replication Trades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      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Long the Call                                      Long the Put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42" name="Object 9"/>
          <p:cNvGraphicFramePr/>
          <p:nvPr/>
        </p:nvGraphicFramePr>
        <p:xfrm>
          <a:off x="914400" y="2057400"/>
          <a:ext cx="563868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56386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0"/>
          <p:cNvGraphicFramePr/>
          <p:nvPr/>
        </p:nvGraphicFramePr>
        <p:xfrm>
          <a:off x="2743200" y="2514600"/>
          <a:ext cx="510552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514600"/>
                    <a:ext cx="51055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Algebra of Expiration Date Diagram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profit function for a long position in a call option can be written a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π = C(T,X) - {call premium}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ere the expiration date payoff for a call option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C(T,X) = max[0, S(T) - X]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Algebra (cont’d)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sider the replication trade profit function for a long call (long the stock + long a put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π = S(T) – S(0) + P(T,X) - {put prem.}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=  S(T) – S(0) + max[ 0, X – S(T)] - {put prem.}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=  max[ 0, S(T) – X] - {put prem. + S(0) - X}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Readings and Exercise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eading: RSD, p.382-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xercises: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evelop the expiration date profit diagrams for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Long the stock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Short the stock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Long the Vertical Spread with Puts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Long the Straddle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Short the Strangle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8T20:45:30Z</dcterms:created>
  <dc:creator>maury poitras</dc:creator>
  <dc:description/>
  <dc:language>en-US</dc:language>
  <cp:lastModifiedBy> </cp:lastModifiedBy>
  <dcterms:modified xsi:type="dcterms:W3CDTF">2010-10-25T23:50:24Z</dcterms:modified>
  <cp:revision>5</cp:revision>
  <dc:subject/>
  <dc:title>Lecture 8</dc:title>
</cp:coreProperties>
</file>