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F8BA3-5849-4AA6-81BB-157C936F7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465C8-5759-4A39-83F6-854D32EF6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CC109-7136-4523-939F-44CBFDCB5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D0FFF-EC1E-4AB9-869B-DA99635CB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5C9F9-D01F-4175-B36F-7984D20C4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AFCBD-B2DD-479F-B6CC-9F3863C4E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98CB4-7CD7-4656-BCD3-01697B00E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256FF-1DF2-454E-80E3-429439EC9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E4D2D-83AC-452E-BD0B-94440244E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0648E-99DF-4375-82D3-5B89EF765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A5BA5-BC84-41B0-B978-FA98BA21D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FDF23-EE47-483C-AC3F-F2FAD8518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D60F3-416F-458E-9494-EED5E2CDC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3AF65-3E96-432F-9D43-1D9577A5A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35F7E-4C0F-43FF-A4E7-2C2548270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24702-CD38-432B-919C-207B34761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00232-D951-4202-AF17-E1479A022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1FE20-1BDB-4195-AEA0-42AAE582D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2ADA9-609E-4DCA-BA09-E8FEEFD05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09C9B-CF8B-4EF2-A29E-60A7C2525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BB6BD-EDF5-44FA-9280-8C03CA7C4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F613D-54D1-4373-9267-CBEBC68B4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0050-989F-4B7C-A6EE-6BA95D90D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3295B-CEA0-4BC3-ABBE-3E37DAAE4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92CF-3E59-4680-8415-12F27B37C9A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8E1E-E85E-4455-9184-9F6CF8621C4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ounting Standards for </a:t>
            </a:r>
            <a:br>
              <a:rPr sz="3600"/>
            </a:br>
            <a:r>
              <a:rPr b="1" lang="en-US" sz="3600" spc="-1" strike="noStrike">
                <a:solidFill>
                  <a:srgbClr val="006666"/>
                </a:solidFill>
                <a:latin typeface="Arial"/>
              </a:rPr>
              <a:t>Employee Stock Option (ESO) Disclosure</a:t>
            </a:r>
            <a:endParaRPr b="0" lang="en-US" sz="36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Prof. Geoffrey Poitras</a:t>
            </a:r>
            <a:br>
              <a:rPr sz="2500"/>
            </a:br>
            <a:br>
              <a:rPr sz="2500"/>
            </a:br>
            <a:r>
              <a:rPr b="0" lang="en-GB" sz="2500" spc="-1" strike="noStrike">
                <a:solidFill>
                  <a:srgbClr val="000000"/>
                </a:solidFill>
                <a:latin typeface="Verdana"/>
              </a:rPr>
              <a:t>Faculty of Business Administration</a:t>
            </a:r>
            <a:br>
              <a:rPr sz="2500"/>
            </a:br>
            <a:r>
              <a:rPr b="0" lang="en-GB" sz="2500" spc="-1" strike="noStrike">
                <a:solidFill>
                  <a:srgbClr val="000000"/>
                </a:solidFill>
                <a:latin typeface="Verdana"/>
              </a:rPr>
              <a:t>Simon Fraser University</a:t>
            </a:r>
            <a:br>
              <a:rPr sz="2500"/>
            </a:br>
            <a:r>
              <a:rPr b="0" lang="en-GB" sz="2500" spc="-1" strike="noStrike">
                <a:solidFill>
                  <a:srgbClr val="000000"/>
                </a:solidFill>
                <a:latin typeface="Verdana"/>
              </a:rPr>
              <a:t>Burnaby, B.C.</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1320"/>
            <a:ext cx="7845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AS 123R (2004) </a:t>
            </a:r>
            <a:r>
              <a:rPr b="0" i="1" lang="en-US" sz="2800" spc="-1" strike="noStrike">
                <a:solidFill>
                  <a:srgbClr val="006666"/>
                </a:solidFill>
                <a:latin typeface="Arial"/>
              </a:rPr>
              <a:t>Share-Based Payment</a:t>
            </a:r>
            <a:endParaRPr b="0" lang="en-US" sz="28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quires </a:t>
            </a:r>
            <a:r>
              <a:rPr b="1" lang="en-US" sz="2500" spc="-1" strike="noStrike">
                <a:solidFill>
                  <a:srgbClr val="000000"/>
                </a:solidFill>
                <a:latin typeface="Verdana"/>
              </a:rPr>
              <a:t>mandatory expensing</a:t>
            </a:r>
            <a:r>
              <a:rPr b="0" lang="en-US" sz="2500" spc="-1" strike="noStrike">
                <a:solidFill>
                  <a:srgbClr val="000000"/>
                </a:solidFill>
                <a:latin typeface="Verdana"/>
              </a:rPr>
              <a:t> using fair value method for stock options grants be used in annual and interim reports after June 15, 2005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llows for compensation expense to be revalued each period to include current price movements and forfeitures</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pplies to all stock-based compensation including: stock options, restricted stock, and restricted stock units</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imitations of FAS 123R</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ree general types of criticisms raised by groups such as IESOC in battle against FAS 123R</a:t>
            </a:r>
            <a:endParaRPr b="0" lang="en-US" sz="2500" spc="-1" strike="noStrike">
              <a:solidFill>
                <a:srgbClr val="000000"/>
              </a:solidFill>
              <a:latin typeface="Verdana"/>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bility to determine a fair value estimate of option value</a:t>
            </a:r>
            <a:endParaRPr b="0" lang="en-US" sz="2100" spc="-1" strike="noStrike">
              <a:solidFill>
                <a:srgbClr val="000000"/>
              </a:solidFill>
              <a:latin typeface="Verdana"/>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cy of recognition principle</a:t>
            </a:r>
            <a:endParaRPr b="0" lang="en-US" sz="2100" spc="-1" strike="noStrike">
              <a:solidFill>
                <a:srgbClr val="000000"/>
              </a:solidFill>
              <a:latin typeface="Verdana"/>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distinction between ESO’s and ExSO’s</a:t>
            </a:r>
            <a:endParaRPr b="0" lang="en-US" sz="2100" spc="-1" strike="noStrike">
              <a:solidFill>
                <a:srgbClr val="000000"/>
              </a:solidFill>
              <a:latin typeface="Verdana"/>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air Value Estimation</a:t>
            </a:r>
            <a:endParaRPr b="0" lang="en-US" sz="3600" spc="-1" strike="noStrike">
              <a:solidFill>
                <a:srgbClr val="006666"/>
              </a:solidFill>
              <a:latin typeface="Arial"/>
            </a:endParaRPr>
          </a:p>
        </p:txBody>
      </p:sp>
      <p:sp>
        <p:nvSpPr>
          <p:cNvPr id="113" name="PlaceHolder 2"/>
          <p:cNvSpPr>
            <a:spLocks noGrp="1"/>
          </p:cNvSpPr>
          <p:nvPr>
            <p:ph/>
          </p:nvPr>
        </p:nvSpPr>
        <p:spPr>
          <a:xfrm>
            <a:off x="1369800" y="2057400"/>
            <a:ext cx="7313400" cy="403848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AS 123R expands the scope of methods used for estimating fair value</a:t>
            </a:r>
            <a:r>
              <a:rPr b="0" lang="en-US"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mitations of Black-Scholes for ESO’s can be handled with lattice models</a:t>
            </a:r>
            <a:endParaRPr b="0" lang="en-US" sz="2100" spc="-1" strike="noStrike">
              <a:solidFill>
                <a:srgbClr val="000000"/>
              </a:solidFill>
              <a:latin typeface="Verdana"/>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tra Malkiel and Baumol (2002), there is now general recognition that fair value estimation for ESO’s is consistent with general accounting practices, e.g., deprecia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cognition Principle</a:t>
            </a:r>
            <a:endParaRPr b="0" lang="en-US" sz="36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re ESO’s an expense or a capital account transaction? </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is this expense appropriately recognized e.g., Bulow and Shoven (2005)?</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are the capital account implications handled, e.g., Bodie et al. (2003), Hancock et al. (2005)?  </a:t>
            </a:r>
            <a:endParaRPr b="0" lang="en-US" sz="21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Verdana"/>
              </a:rPr>
              <a:t>Do ESO</a:t>
            </a:r>
            <a:r>
              <a:rPr b="0" lang="en-US" sz="2500" spc="-1" strike="noStrike">
                <a:solidFill>
                  <a:srgbClr val="000000"/>
                </a:solidFill>
                <a:latin typeface="Verdana"/>
              </a:rPr>
              <a:t>s meet the accounting definition of an expense, e.g., Hagopian (2006)?</a:t>
            </a:r>
            <a:endParaRPr b="0" lang="en-US" sz="25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unting accuracy requires </a:t>
            </a:r>
            <a:r>
              <a:rPr b="0" i="1" lang="en-US" sz="2000" spc="-1" strike="noStrike">
                <a:solidFill>
                  <a:srgbClr val="000000"/>
                </a:solidFill>
                <a:latin typeface="Verdana"/>
              </a:rPr>
              <a:t>ESO</a:t>
            </a:r>
            <a:r>
              <a:rPr b="0" lang="en-US" sz="2000" spc="-1" strike="noStrike">
                <a:solidFill>
                  <a:srgbClr val="000000"/>
                </a:solidFill>
                <a:latin typeface="Verdana"/>
              </a:rPr>
              <a:t>s to be handled solely as a capital account transaction and reflected in associated dilution adjustmen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SO’s versus ESO’s</a:t>
            </a: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fferent rules apply to accounting for stock options of named executives (proxy statement) and ESO’s (the 10-K)</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ule 14 of the Securities Act governs the proxy statement (Def14A filing)</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aff Accounting Bulletin 107 (SAB 107) issued in March 2005 (SEC 2005a) mandates </a:t>
            </a:r>
            <a:r>
              <a:rPr b="0" i="1" lang="en-US" sz="2100" spc="-1" strike="noStrike">
                <a:solidFill>
                  <a:srgbClr val="000000"/>
                </a:solidFill>
                <a:latin typeface="Verdana"/>
              </a:rPr>
              <a:t>ESO</a:t>
            </a:r>
            <a:r>
              <a:rPr b="0" lang="en-US" sz="2100" spc="-1" strike="noStrike">
                <a:solidFill>
                  <a:srgbClr val="000000"/>
                </a:solidFill>
                <a:latin typeface="Verdana"/>
              </a:rPr>
              <a:t> expensing incorporating </a:t>
            </a:r>
            <a:r>
              <a:rPr b="0" i="1" lang="en-US" sz="2100" spc="-1" strike="noStrike">
                <a:solidFill>
                  <a:srgbClr val="000000"/>
                </a:solidFill>
                <a:latin typeface="Verdana"/>
              </a:rPr>
              <a:t>ESO</a:t>
            </a:r>
            <a:r>
              <a:rPr b="0" lang="en-US" sz="2100" spc="-1" strike="noStrike">
                <a:solidFill>
                  <a:srgbClr val="000000"/>
                </a:solidFill>
                <a:latin typeface="Verdana"/>
              </a:rPr>
              <a:t> disclosure issues of FAS 123R into SEC filing requirements.</a:t>
            </a:r>
            <a:endParaRPr b="0" lang="en-US" sz="21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gulatory negligence or just sloppines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asics of ESO Compensation</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 ESO is an option grant with special features made to employees (ESO) and executives (ExSO)</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ong dated (5-10 years) usually vesting at certain rate over time, say 25% become exercisable each year after the lockout period</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n-transferable &amp; generally forfeitable if employee or executive leaves firm</a:t>
            </a:r>
            <a:endParaRPr b="0" lang="en-US" sz="21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mployee Stock Options</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oad-based stock option plans available to at least 50% of full-time workforce</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Plans for all employees are often, though not always, identical to those for executives</a:t>
            </a:r>
            <a:endParaRPr b="0" lang="en-US" sz="21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idence on ESO Usage</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 US (Hall and Murphy 2003) </a:t>
            </a:r>
            <a:endParaRPr b="0" lang="en-US" sz="19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utstanding </a:t>
            </a:r>
            <a:r>
              <a:rPr b="0" i="1" lang="en-US" sz="1700" spc="-1" strike="noStrike">
                <a:solidFill>
                  <a:srgbClr val="000000"/>
                </a:solidFill>
                <a:latin typeface="Verdana"/>
              </a:rPr>
              <a:t>ESO</a:t>
            </a:r>
            <a:r>
              <a:rPr b="0" lang="en-US" sz="1700" spc="-1" strike="noStrike">
                <a:solidFill>
                  <a:srgbClr val="000000"/>
                </a:solidFill>
                <a:latin typeface="Verdana"/>
              </a:rPr>
              <a:t>s for an average S&amp;P 500 firm increased over tenfold from $22 million in 1992 to $238 million per company in 2000.</a:t>
            </a:r>
            <a:endParaRPr b="0" lang="en-US" sz="17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ver 90% of </a:t>
            </a:r>
            <a:r>
              <a:rPr b="0" i="1" lang="en-US" sz="1700" spc="-1" strike="noStrike">
                <a:solidFill>
                  <a:srgbClr val="000000"/>
                </a:solidFill>
                <a:latin typeface="Verdana"/>
              </a:rPr>
              <a:t>ESO</a:t>
            </a:r>
            <a:r>
              <a:rPr b="0" lang="en-US" sz="1700" spc="-1" strike="noStrike">
                <a:solidFill>
                  <a:srgbClr val="000000"/>
                </a:solidFill>
                <a:latin typeface="Verdana"/>
              </a:rPr>
              <a:t>s given to employees other than the top five executives, </a:t>
            </a:r>
            <a:endParaRPr b="0" lang="en-US" sz="17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share of stock options granted to the CEO fell from over 7% to under 5%.</a:t>
            </a:r>
            <a:endParaRPr b="0" lang="en-US" sz="17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 Canada</a:t>
            </a:r>
            <a:endParaRPr b="0" lang="en-US" sz="19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or the largest 100 public companies ESO usage increased from one-third of in 1991 to two-thirds in 1995;by 2000 all companies in the top 100 are using ESOs (Klassen 2002).  </a:t>
            </a:r>
            <a:endParaRPr b="0" lang="en-US" sz="17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ock option grants accounted for 44% of all stock options awarded in 2000, leaving 56% of all stock options granted to regular employees.</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roblems associated with ESO’s</a:t>
            </a:r>
            <a:endParaRPr b="0" lang="en-US" sz="3600" spc="-1" strike="noStrike">
              <a:solidFill>
                <a:srgbClr val="006666"/>
              </a:solidFill>
              <a:latin typeface="Arial"/>
            </a:endParaRPr>
          </a:p>
        </p:txBody>
      </p:sp>
      <p:sp>
        <p:nvSpPr>
          <p:cNvPr id="97" name="PlaceHolder 2"/>
          <p:cNvSpPr>
            <a:spLocks noGrp="1"/>
          </p:cNvSpPr>
          <p:nvPr>
            <p:ph/>
          </p:nvPr>
        </p:nvSpPr>
        <p:spPr>
          <a:xfrm>
            <a:off x="914040" y="1827360"/>
            <a:ext cx="776916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a:t>
            </a:r>
            <a:r>
              <a:rPr b="0" i="1" lang="en-US" sz="2900" spc="-1" strike="noStrike">
                <a:solidFill>
                  <a:srgbClr val="000000"/>
                </a:solidFill>
                <a:latin typeface="Verdana"/>
              </a:rPr>
              <a:t>You issue stock options to reduce compensation expense and therefore increase your profitability.”                                                                                           </a:t>
            </a:r>
            <a:r>
              <a:rPr b="0" lang="en-US" sz="2900" spc="-1" strike="noStrike">
                <a:solidFill>
                  <a:srgbClr val="000000"/>
                </a:solidFill>
                <a:latin typeface="Verdana"/>
              </a:rPr>
              <a:t>Jeffrey Skilling</a:t>
            </a:r>
            <a:r>
              <a:rPr b="0" i="1" lang="en-US" sz="2900" spc="-1" strike="noStrike">
                <a:solidFill>
                  <a:srgbClr val="000000"/>
                </a:solidFill>
                <a:latin typeface="Verdana"/>
              </a:rPr>
              <a:t> (</a:t>
            </a:r>
            <a:r>
              <a:rPr b="0" lang="en-US" sz="2900" spc="-1" strike="noStrike">
                <a:solidFill>
                  <a:srgbClr val="000000"/>
                </a:solidFill>
                <a:latin typeface="Verdana"/>
              </a:rPr>
              <a:t>former CEO of Enron Co.)</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ackdating and financial statement manipul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istory of ESO Accounting in US</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PB 25 (1972)</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Firm can elect either fair value expense amount or the intrinsic amount</a:t>
            </a:r>
            <a:endParaRPr b="0" lang="en-US" sz="2500" spc="-1" strike="noStrike">
              <a:solidFill>
                <a:srgbClr val="000000"/>
              </a:solidFill>
              <a:latin typeface="Verdana"/>
            </a:endParaRPr>
          </a:p>
          <a:p>
            <a:pPr lvl="2" marL="1143000" indent="-228600">
              <a:lnSpc>
                <a:spcPct val="8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phole: if a firm sets the exercise price of the option equal to the market price at grant date, then $0 expense is recognized</a:t>
            </a:r>
            <a:endParaRPr b="0" lang="en-US" sz="2200" spc="-1" strike="noStrike">
              <a:solidFill>
                <a:srgbClr val="000000"/>
              </a:solidFill>
              <a:latin typeface="Verdana"/>
            </a:endParaRPr>
          </a:p>
          <a:p>
            <a:pPr lvl="2" marL="1143000" indent="-228600">
              <a:lnSpc>
                <a:spcPct val="8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most all firms elected to use intrinsic value</a:t>
            </a:r>
            <a:endParaRPr b="0" lang="en-US" sz="22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grant date)</a:t>
            </a:r>
            <a:r>
              <a:rPr b="0" lang="en-US" sz="2500" spc="-1" strike="noStrike">
                <a:solidFill>
                  <a:srgbClr val="5f5f5f"/>
                </a:solidFill>
                <a:latin typeface="Verdana"/>
              </a:rPr>
              <a:t> </a:t>
            </a:r>
            <a:r>
              <a:rPr b="0" i="1" lang="en-US" sz="2500" spc="-1" strike="noStrike">
                <a:solidFill>
                  <a:srgbClr val="5f5f5f"/>
                </a:solidFill>
                <a:latin typeface="Verdana"/>
              </a:rPr>
              <a:t>Intrinsic Value</a:t>
            </a:r>
            <a:r>
              <a:rPr b="0" lang="en-US" sz="2500" spc="-1" strike="noStrike">
                <a:solidFill>
                  <a:srgbClr val="000000"/>
                </a:solidFill>
                <a:latin typeface="Verdana"/>
              </a:rPr>
              <a:t> of a stock option is the maximum of zero or the stock price at grant date less the exercise pric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Development of FAS 123</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1985, the FASB set about developing an accounting standard for stock-based compensation that would recognize the fair-value of such grants.  </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fter a decade of attempting to formulate a generally acceptable method of expensing stock options at “fair value”, the FASB introduced FAS 123 in 1995.</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Contentious Debate over FAS 123</a:t>
            </a:r>
            <a:endParaRPr b="0" lang="en-US" sz="32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preamble to the Statement of FAS 123 reflects the contentious debate</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The debate on accounting for stock‑based compensation unfortunately became so divisive that it threatened the Board's future working relationship with some of its constituents. Eventually, the nature of the debate threatened the future of accounting standards setting in the private sector”</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imitations of FAS 123</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49712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rom Section 5 of the Statement:</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his Statement … establishes an accounting method based on the fair value of equity instruments awarded to employees as compensation that mitigates many of the deficiencies in Opinion 25.  The Board encourages entities to adopt the new method.  However, </a:t>
            </a:r>
            <a:r>
              <a:rPr b="1" i="1" lang="en-US" sz="2100" spc="-1" strike="noStrike">
                <a:solidFill>
                  <a:srgbClr val="000000"/>
                </a:solidFill>
                <a:latin typeface="Verdana"/>
              </a:rPr>
              <a:t>this Statement permits an entity in determining the net income to continue to apply the accounting provisions of Opinion 25</a:t>
            </a:r>
            <a:r>
              <a:rPr b="0" lang="en-US" sz="2100" spc="-1" strike="noStrike">
                <a:solidFill>
                  <a:srgbClr val="000000"/>
                </a:solidFill>
                <a:latin typeface="Verdana"/>
              </a:rPr>
              <a:t>.”</a:t>
            </a:r>
            <a:endParaRPr b="0" lang="en-US" sz="2100" spc="-1" strike="noStrike">
              <a:solidFill>
                <a:srgbClr val="000000"/>
              </a:solidFill>
              <a:latin typeface="Verdana"/>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most all firms continued to use APB 25 method</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Ox and Accounting Reform</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ckground for Accounting Reform</a:t>
            </a:r>
            <a:endParaRPr b="0" lang="en-US" sz="19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counting debacles at large entities such as Enron and Worldcom </a:t>
            </a:r>
            <a:endParaRPr b="0" lang="en-US" sz="17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NASDAQ-5000 technology stock bubble that collapsed in the first half of 2000</a:t>
            </a:r>
            <a:endParaRPr b="0" lang="en-US" sz="17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demise of Arthur Anderson</a:t>
            </a:r>
            <a:endParaRPr b="0" lang="en-US" sz="1700" spc="-1" strike="noStrike">
              <a:solidFill>
                <a:srgbClr val="000000"/>
              </a:solidFill>
              <a:latin typeface="Verdana"/>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any suspect accounting practices were captured by the Sarbanes-Oxley Act (July 30, 2002; Public Law 107-204) </a:t>
            </a:r>
            <a:endParaRPr b="0" lang="en-US" sz="19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dequacy of internal and external auditing procedures.</a:t>
            </a:r>
            <a:endParaRPr b="0" lang="en-US" sz="17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Verdana"/>
              </a:rPr>
              <a:t>ESO</a:t>
            </a:r>
            <a:r>
              <a:rPr b="0" lang="en-US" sz="1900" spc="-1" strike="noStrike">
                <a:solidFill>
                  <a:srgbClr val="000000"/>
                </a:solidFill>
                <a:latin typeface="Verdana"/>
              </a:rPr>
              <a:t> accounting was significant in a range of technology companies</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4T18:37:35Z</dcterms:created>
  <dc:creator>gp</dc:creator>
  <dc:description/>
  <dc:language>en-US</dc:language>
  <cp:lastModifiedBy>gp</cp:lastModifiedBy>
  <dcterms:modified xsi:type="dcterms:W3CDTF">2007-01-17T23:50:22Z</dcterms:modified>
  <cp:revision>7</cp:revision>
  <dc:subject/>
  <dc:title>Accounting Standards for  Employee Stock Option Disclosure</dc:title>
</cp:coreProperties>
</file>