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056D3-91FE-4203-A41F-9162ED297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39343-5E64-4E2A-8E3C-D50539AC9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4F55A-4539-45F8-87B3-5B9BDF653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2B142-0427-4BB0-B227-35EC0803E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B20A2-3193-46C3-B4DB-50DA5FCB5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54EDF-0D5F-4E77-898D-2D5F7DB8C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E7E21-4B1B-4AB1-93A7-17F9F3FD4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A0017-ED51-4DB0-BE5B-82EC5DF64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12278-8CE5-4322-A2B6-C4F2E2E07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364FB-8355-4C06-B687-519CDD6C9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C8548-DFEC-44C7-951E-8CAFF739E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78DC3-D6FF-4C73-B3BD-7E7D7FBA4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BD9BB-D57E-4BD6-9834-2458805F4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05460-EC11-4F6A-B523-A939775DA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4AA14-7506-4E98-9FE5-9F57A5AA2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47195-E3D9-4326-AD00-B5EC9159A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05D52-0042-48A5-9146-9B1C9A55B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E8B39-8625-40CE-9DDD-94389B445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DADA4-681D-4DAD-AA8A-9E9912486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8E1B8-D84C-48CA-8789-6349AA77C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063C8-0144-44E5-B136-68F7C2705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9B0C7-B2EB-4BD5-971E-F95413EA9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8116F-3E88-475D-A576-9B12872A0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6B5E4-BC01-469B-8517-48D096610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4B25C-4E0F-47F9-A664-150EA046B677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DF086-9BAA-4513-B11B-85C6618230EC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33"/>
                </a:solidFill>
                <a:latin typeface="Garamond"/>
              </a:rPr>
              <a:t>Lecture 11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rade:  Naked Position, Index Op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riving the Black-Scholes model (RSD, p.438-44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tending Black-Scholes to Other Cases (RSD, p.459-71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urrency Options: Pricing and Early Exercise (RSD, p.474-9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3" descr=""/>
          <p:cNvPicPr/>
          <p:nvPr/>
        </p:nvPicPr>
        <p:blipFill>
          <a:blip r:embed="rId1"/>
          <a:stretch/>
        </p:blipFill>
        <p:spPr>
          <a:xfrm>
            <a:off x="380880" y="531720"/>
            <a:ext cx="831528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The Riskless Hedge Portfolio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is both a long and a short hedge portfolio, the long portfolio combine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long stock position with </a:t>
            </a:r>
            <a:r>
              <a:rPr b="1" i="1" lang="en-US" sz="2000" spc="-1" strike="noStrike">
                <a:solidFill>
                  <a:srgbClr val="000000"/>
                </a:solidFill>
                <a:latin typeface="WP Greek Century"/>
                <a:ea typeface="WP Greek Century"/>
              </a:rPr>
              <a:t>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written call options on the stoc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value of required to purchase this portfolio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V)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expressed 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7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V(t) = S(t) - </a:t>
            </a:r>
            <a:r>
              <a:rPr b="1" i="1" lang="en-US" sz="2400" spc="-1" strike="noStrike">
                <a:solidFill>
                  <a:srgbClr val="000000"/>
                </a:solidFill>
                <a:latin typeface="WP Greek Century"/>
                <a:ea typeface="WP Greek Century"/>
              </a:rPr>
              <a:t>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C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hedge portfolio condition can be specified a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5" descr=""/>
          <p:cNvPicPr/>
          <p:nvPr/>
        </p:nvPicPr>
        <p:blipFill>
          <a:blip r:embed="rId1"/>
          <a:stretch/>
        </p:blipFill>
        <p:spPr>
          <a:xfrm>
            <a:off x="228600" y="4648320"/>
            <a:ext cx="8739360" cy="144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Comments on the Hedge Portfolio 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hedge portfolio conditio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WP MathA"/>
                <a:ea typeface="WP MathA"/>
              </a:rPr>
              <a:t>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V / </a:t>
            </a:r>
            <a:r>
              <a:rPr b="0" i="1" lang="en-US" sz="2400" spc="-1" strike="noStrike">
                <a:solidFill>
                  <a:srgbClr val="000000"/>
                </a:solidFill>
                <a:latin typeface="WP MathA"/>
                <a:ea typeface="WP MathA"/>
              </a:rPr>
              <a:t>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) = 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volves the partial derivative with respect to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Do not confuse this with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V = 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a riskless hedge portfolio condition because the amount of funds required to purchas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less than the funds received from selling </a:t>
            </a:r>
            <a:r>
              <a:rPr b="0" lang="en-US" sz="2400" spc="-1" strike="noStrike">
                <a:solidFill>
                  <a:srgbClr val="000000"/>
                </a:solidFill>
                <a:latin typeface="WP Greek Century"/>
                <a:ea typeface="WP Greek Century"/>
              </a:rPr>
              <a:t>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all options, i.e., there is a net investment of funds in the position.  (This violates the requirements for an arbitrag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number of written calls needed to hedge the portfolio value will change a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hange over time. 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l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the call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WP MathA"/>
                <a:ea typeface="WP MathA"/>
              </a:rPr>
              <a:t>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 / </a:t>
            </a:r>
            <a:r>
              <a:rPr b="0" i="1" lang="en-US" sz="2400" spc="-1" strike="noStrike">
                <a:solidFill>
                  <a:srgbClr val="000000"/>
                </a:solidFill>
                <a:latin typeface="WP MathA"/>
                <a:ea typeface="WP MathA"/>
              </a:rPr>
              <a:t>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) = </a:t>
            </a:r>
            <a:r>
              <a:rPr b="0" i="1" lang="en-US" sz="2400" spc="-1" strike="noStrike">
                <a:solidFill>
                  <a:srgbClr val="000000"/>
                </a:solidFill>
                <a:latin typeface="WP Greek Century"/>
                <a:ea typeface="WP Greek Century"/>
              </a:rPr>
              <a:t>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this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Basic Calculus and Stochastic Calculus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ntional calculus deals with deterministic functions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[x,y]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ables are non-random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otal derivative ru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f[x,y] = (</a:t>
            </a:r>
            <a:r>
              <a:rPr b="0" i="1" lang="en-US" sz="2400" spc="-1" strike="noStrike">
                <a:solidFill>
                  <a:srgbClr val="000000"/>
                </a:solidFill>
                <a:latin typeface="WP MathA"/>
                <a:ea typeface="WP MathA"/>
              </a:rPr>
              <a:t>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 / </a:t>
            </a:r>
            <a:r>
              <a:rPr b="0" i="1" lang="en-US" sz="2400" spc="-1" strike="noStrike">
                <a:solidFill>
                  <a:srgbClr val="000000"/>
                </a:solidFill>
                <a:latin typeface="WP MathA"/>
                <a:ea typeface="WP MathA"/>
              </a:rPr>
              <a:t>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) dx + (</a:t>
            </a:r>
            <a:r>
              <a:rPr b="0" i="1" lang="en-US" sz="2400" spc="-1" strike="noStrike">
                <a:solidFill>
                  <a:srgbClr val="000000"/>
                </a:solidFill>
                <a:latin typeface="WP MathA"/>
                <a:ea typeface="WP MathA"/>
              </a:rPr>
              <a:t>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 / </a:t>
            </a:r>
            <a:r>
              <a:rPr b="0" i="1" lang="en-US" sz="2400" spc="-1" strike="noStrike">
                <a:solidFill>
                  <a:srgbClr val="000000"/>
                </a:solidFill>
                <a:latin typeface="WP MathA"/>
                <a:ea typeface="WP MathA"/>
              </a:rPr>
              <a:t>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) 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all price function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[S,t*;X,r,σ]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ains the random variabl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emantics: random = stochastic)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chastic Calculus is for functions with stochastic variables. This is more complicated because the process of taking the slope at a point is not possible because the function is not well defined at a point if there is a random compon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Ito’s Lemma and Stochastic Calculus for Diffusion Processes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o’s Lemma provides the rule for totally differentiating functions of random variables where the randomness is associated with 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usion proces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000000"/>
                </a:solidFill>
                <a:latin typeface="Arial"/>
              </a:rPr>
              <a:t>Ito's Lemma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:  Let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y(x,t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) be a continuous random function with continuous partial derivatives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2100" spc="-1" strike="noStrike" baseline="-25000">
                <a:solidFill>
                  <a:srgbClr val="000000"/>
                </a:solidFill>
                <a:latin typeface="Arial"/>
              </a:rPr>
              <a:t>t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, y</a:t>
            </a:r>
            <a:r>
              <a:rPr b="0" i="1" lang="en-US" sz="2100" spc="-1" strike="noStrike" baseline="-25000">
                <a:solidFill>
                  <a:srgbClr val="000000"/>
                </a:solidFill>
                <a:latin typeface="Arial"/>
              </a:rPr>
              <a:t>x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21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.  If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x(t)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is a random process obeying a diffusion of the form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dx(t) = a(t) dt + v(t) dW(t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W(t)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is a standard Wiener process and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(t)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v(t)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are the drift and volatility of the diffusion, then the function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y(t) = y(x(t),t)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also has a differential on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[0,T]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given by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dy(t) = {y</a:t>
            </a:r>
            <a:r>
              <a:rPr b="0" i="1" lang="en-US" sz="21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 + y</a:t>
            </a:r>
            <a:r>
              <a:rPr b="0" i="1" lang="en-US" sz="21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 a(t) + 1/2 y</a:t>
            </a:r>
            <a:r>
              <a:rPr b="0" i="1" lang="en-US" sz="21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 v(t)</a:t>
            </a:r>
            <a:r>
              <a:rPr b="0" i="1" lang="en-US" sz="21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} dt + y</a:t>
            </a:r>
            <a:r>
              <a:rPr b="0" i="1" lang="en-US" sz="21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 v(t) dW(t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Ito’s Lemma for the Call Price Function</a:t>
            </a:r>
            <a:br>
              <a:rPr sz="38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non-dividend paying stock price is assumed to follow a log-normal diffu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S = α S dt + σ S d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is case,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(t) = α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v(t) = σ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here α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re consta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unctional relationship between the call option pric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C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the stock price takes the form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 = C[S,t; X]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 Application of Ito's lemma giv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C = {C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+ C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α S + 1/2 C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S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σ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S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} dt + {C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σ S} d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33"/>
                </a:solidFill>
                <a:latin typeface="Garamond"/>
              </a:rPr>
              <a:t>Solving for the fundamental Black-Scholes PDE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16" name="Picture 2" descr=""/>
          <p:cNvPicPr/>
          <p:nvPr/>
        </p:nvPicPr>
        <p:blipFill>
          <a:blip r:embed="rId1"/>
          <a:stretch/>
        </p:blipFill>
        <p:spPr>
          <a:xfrm>
            <a:off x="533520" y="1371600"/>
            <a:ext cx="8467560" cy="425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Solving for the Fundamental P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e Black-Scholes derivation uses two conditions: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dV = dS - </a:t>
            </a:r>
            <a:r>
              <a:rPr b="0" i="1" lang="en-US" sz="2100" spc="-1" strike="noStrike">
                <a:solidFill>
                  <a:srgbClr val="000000"/>
                </a:solidFill>
                <a:latin typeface="WP Greek Century"/>
                <a:ea typeface="WP Greek Century"/>
              </a:rPr>
              <a:t>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 dC (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otal Derivative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dV = (S - </a:t>
            </a:r>
            <a:r>
              <a:rPr b="0" i="1" lang="en-US" sz="2100" spc="-1" strike="noStrike">
                <a:solidFill>
                  <a:srgbClr val="000000"/>
                </a:solidFill>
                <a:latin typeface="WP Greek Century"/>
                <a:ea typeface="WP Greek Century"/>
              </a:rPr>
              <a:t>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 C) r dt 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(Riskless Return Condition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e first condition can be solved by substituting in: the diffusion equation for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dS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100" spc="-1" strike="noStrike">
                <a:solidFill>
                  <a:srgbClr val="000000"/>
                </a:solidFill>
                <a:latin typeface="WP Greek Century"/>
                <a:ea typeface="WP Greek Century"/>
              </a:rPr>
              <a:t>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 = C</a:t>
            </a:r>
            <a:r>
              <a:rPr b="0" i="1" lang="en-US" sz="21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(from the riskless hedge solution) and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dC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from Ito’s Lemma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e two conditions are equated and solved to get the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fundamental partial differential equation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(PDE) for a European call on a non-dividend paying stock (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subject to the boundary and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terminal conditions of </a:t>
            </a:r>
            <a:r>
              <a:rPr b="1" i="1" lang="en-US" sz="2100" spc="-1" strike="noStrike">
                <a:solidFill>
                  <a:srgbClr val="000000"/>
                </a:solidFill>
                <a:latin typeface="Arial"/>
              </a:rPr>
              <a:t>C[T] = max[0, S-X]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i="1" lang="en-US" sz="2100" spc="-1" strike="noStrike">
                <a:solidFill>
                  <a:srgbClr val="000000"/>
                </a:solidFill>
                <a:latin typeface="Arial"/>
              </a:rPr>
              <a:t>C[S=0] = 0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5" descr=""/>
          <p:cNvPicPr/>
          <p:nvPr/>
        </p:nvPicPr>
        <p:blipFill>
          <a:blip r:embed="rId1"/>
          <a:stretch/>
        </p:blipFill>
        <p:spPr>
          <a:xfrm>
            <a:off x="1676520" y="4952880"/>
            <a:ext cx="5662440" cy="10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Solving the P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Black-Scholes formula is the function that solves the fundamental PDE probl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are a number of possible methods that can be used to derive this solution – solving PDE’s is an active research area in mathematic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is class the solution will be verified when the Greeks are being discussed (see RSD, p.497-8)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Notice that the fundamental PDE provides a relationship among delta, gamma and theta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33"/>
                </a:solidFill>
                <a:latin typeface="Garamond"/>
              </a:rPr>
              <a:t>Solving for the Put Pricing Formula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23" name="Picture 2" descr=""/>
          <p:cNvPicPr/>
          <p:nvPr/>
        </p:nvPicPr>
        <p:blipFill>
          <a:blip r:embed="rId1"/>
          <a:stretch/>
        </p:blipFill>
        <p:spPr>
          <a:xfrm>
            <a:off x="814320" y="1523880"/>
            <a:ext cx="7156440" cy="12193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 txBox="1"/>
          <p:nvPr/>
        </p:nvSpPr>
        <p:spPr>
          <a:xfrm>
            <a:off x="990720" y="3047760"/>
            <a:ext cx="7696080" cy="308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ving for the Black-Scholes Put Price involves using the Put-Call parity condition and using the result that (see Appendix 3 in RSD for deriv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] – 1 =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-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The Black-Scholes Formula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BLACK-SCHOLES CALL OPTION FORMULA (the put solution is solved using the put-call parity conditio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7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[S,t*;X,r,σ] = C(t) = S(t) N[d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] - X e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Arial"/>
              </a:rPr>
              <a:t>-rt*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N[d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7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[d]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umulativ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normal distribution evaluated at the valu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whe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5" descr=""/>
          <p:cNvPicPr/>
          <p:nvPr/>
        </p:nvPicPr>
        <p:blipFill>
          <a:blip r:embed="rId1"/>
          <a:stretch/>
        </p:blipFill>
        <p:spPr>
          <a:xfrm>
            <a:off x="2800440" y="4267080"/>
            <a:ext cx="4057560" cy="19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Extending Black-Scholes: Dividends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64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ensions to the basic Black-Scholes formula follow from dropping specific assump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opping the no dividends assumption can involve either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ontinuous (D = </a:t>
            </a:r>
            <a:r>
              <a:rPr b="1" i="1" lang="en-US" sz="2400" spc="-1" strike="noStrike">
                <a:solidFill>
                  <a:srgbClr val="000000"/>
                </a:solidFill>
                <a:latin typeface="WP Greek Century"/>
                <a:ea typeface="WP Greek Century"/>
              </a:rPr>
              <a:t>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iscret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yment frequenc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both cases, the riskless hedge condition is adjusted.  For the continuous dividend case, the call option formula beco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5" descr=""/>
          <p:cNvPicPr/>
          <p:nvPr/>
        </p:nvPicPr>
        <p:blipFill>
          <a:blip r:embed="rId1"/>
          <a:stretch/>
        </p:blipFill>
        <p:spPr>
          <a:xfrm>
            <a:off x="1905120" y="3657600"/>
            <a:ext cx="5333760" cy="22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Garamond"/>
              </a:rPr>
              <a:t>Extending Black-Scholes: Forward Contracts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the underlying security is a forward contract, instead of a stock, there are no funds required to purchase the underlying security.  All that remains is the cash inflow from selling the call.  The call option formula in this case beco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5" descr=""/>
          <p:cNvPicPr/>
          <p:nvPr/>
        </p:nvPicPr>
        <p:blipFill>
          <a:blip r:embed="rId1"/>
          <a:stretch/>
        </p:blipFill>
        <p:spPr>
          <a:xfrm>
            <a:off x="1447920" y="3733920"/>
            <a:ext cx="5943600" cy="208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Garamond"/>
              </a:rPr>
              <a:t>Extending Black-Scholes: American Options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most all exchange-traded options are American, not European.  Except in specials cases (perpetuals, calls on non-dividend paying stocks), there are no formulas for American option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olution procedures for Americans involve binomial method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r the implications of using Black-Scholes to value the American, recall from distribution free properties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= C + EEP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33"/>
                </a:solidFill>
                <a:latin typeface="Garamond"/>
              </a:rPr>
              <a:t>Extending Black-Scholes: Other Diffusions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eometric Brownian motion, the log-normal diffusion, has the desirable property that prices have to be non-zer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rithmetic Brownian motion permits the process to assume negative values.  For a non-dividend paying security, this process produces the solution (see RSD, p.469 for definition of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g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5" descr=""/>
          <p:cNvPicPr/>
          <p:nvPr/>
        </p:nvPicPr>
        <p:blipFill>
          <a:blip r:embed="rId1"/>
          <a:stretch/>
        </p:blipFill>
        <p:spPr>
          <a:xfrm>
            <a:off x="2174760" y="4495680"/>
            <a:ext cx="497232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Extending Black-Scholes: Currenci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security underlying the currency option is a foreign money market security that pays interest continuously at rate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*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solution is known as the Garman-Kohlhagen currency option formula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5" descr=""/>
          <p:cNvPicPr/>
          <p:nvPr/>
        </p:nvPicPr>
        <p:blipFill>
          <a:blip r:embed="rId1"/>
          <a:stretch/>
        </p:blipFill>
        <p:spPr>
          <a:xfrm>
            <a:off x="2057400" y="3657600"/>
            <a:ext cx="5410080" cy="26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urrency Options and Early Exercis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rly exercise of currency options is a common ev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practice, early exercise for stocks is associated with a discrete payment.  Currency options have continuous- pay underlying secur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y results for early exercis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American call on a non-dividend paying stock will not be exercised early (see Property 10, RSD, p.378-8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in-the-money options are exercis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rly exercise involves the loss of time val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Garamond"/>
              </a:rPr>
              <a:t>Currency Option Early Exercise (cont’d)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arly exercise decision doe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volve an arbitra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bitrage support for the American call option is provided by Property 10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[S,τ,X] </a:t>
            </a:r>
            <a:r>
              <a:rPr b="0" i="1" lang="en-US" sz="2400" spc="-1" strike="noStrike">
                <a:solidFill>
                  <a:srgbClr val="000000"/>
                </a:solidFill>
                <a:latin typeface="WP MathA"/>
                <a:ea typeface="WP MathA"/>
              </a:rPr>
              <a:t>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C[S,τ,X] </a:t>
            </a:r>
            <a:r>
              <a:rPr b="0" i="1" lang="en-US" sz="2400" spc="-1" strike="noStrike">
                <a:solidFill>
                  <a:srgbClr val="000000"/>
                </a:solidFill>
                <a:latin typeface="WP MathA"/>
                <a:ea typeface="WP MathA"/>
              </a:rPr>
              <a:t>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Max[0, S(t)PV[r*,τ] - X PV[r,τ]]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ever, as the currency option goes deep-in-the money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i="1" lang="en-US" sz="2400" spc="-1" strike="noStrike">
                <a:solidFill>
                  <a:srgbClr val="000000"/>
                </a:solidFill>
                <a:latin typeface="WP MathA"/>
                <a:ea typeface="WP MathA"/>
              </a:rPr>
              <a:t>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Se-r*t* - Xe-rt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becaus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[d] </a:t>
            </a:r>
            <a:r>
              <a:rPr b="0" i="1" lang="en-US" sz="2400" spc="-1" strike="noStrike">
                <a:solidFill>
                  <a:srgbClr val="000000"/>
                </a:solidFill>
                <a:latin typeface="WP MathA"/>
                <a:ea typeface="WP MathA"/>
              </a:rPr>
              <a:t>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1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EP </a:t>
            </a:r>
            <a:r>
              <a:rPr b="0" i="1" lang="en-US" sz="2400" spc="-1" strike="noStrike">
                <a:solidFill>
                  <a:srgbClr val="000000"/>
                </a:solidFill>
                <a:latin typeface="WP MathA"/>
                <a:ea typeface="WP MathA"/>
              </a:rPr>
              <a:t>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0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ch i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&lt; S - 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he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* &gt; r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Solving the Formula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ssume: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S(t)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= $36,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= $40, </a:t>
            </a:r>
            <a:r>
              <a:rPr b="0" lang="en-US" sz="2100" spc="-1" strike="noStrike">
                <a:solidFill>
                  <a:srgbClr val="000000"/>
                </a:solidFill>
                <a:latin typeface="WP Greek Century"/>
                <a:ea typeface="WP Greek Century"/>
              </a:rPr>
              <a:t>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= 3 months </a:t>
            </a:r>
            <a:r>
              <a:rPr b="0" lang="en-US" sz="2100" spc="-1" strike="noStrike">
                <a:solidFill>
                  <a:srgbClr val="000000"/>
                </a:solidFill>
                <a:latin typeface="WP IconicSymbolsA"/>
                <a:ea typeface="WP IconicSymbolsA"/>
              </a:rPr>
              <a:t>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t*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= .25,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= .05, σ = .5.  Both the interest rate and standard deviation are expressed in annualized form.  For sigma, estimating the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historical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tandard deviation over the relevant sampling frequency (e.g., weekly) requires annualizing as appropriate.  Given this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i="1" lang="en-US" sz="21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= {ln[36/40] + (.05 + .5(.5)</a:t>
            </a:r>
            <a:r>
              <a:rPr b="0" lang="en-US" sz="21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) .25} / {.5 (</a:t>
            </a:r>
            <a:r>
              <a:rPr b="0" lang="en-US" sz="2100" spc="-1" strike="noStrike">
                <a:solidFill>
                  <a:srgbClr val="000000"/>
                </a:solidFill>
                <a:latin typeface="WP IconicSymbolsA"/>
                <a:ea typeface="WP IconicSymbolsA"/>
              </a:rPr>
              <a:t>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.25)} = -.25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i="1" lang="en-US" sz="21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= {ln[36/40] + (.05 - .5(.5)</a:t>
            </a:r>
            <a:r>
              <a:rPr b="0" lang="en-US" sz="21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) .25} / {.5 (</a:t>
            </a:r>
            <a:r>
              <a:rPr b="0" lang="en-US" sz="2100" spc="-1" strike="noStrike">
                <a:solidFill>
                  <a:srgbClr val="000000"/>
                </a:solidFill>
                <a:latin typeface="WP IconicSymbolsA"/>
                <a:ea typeface="WP IconicSymbolsA"/>
              </a:rPr>
              <a:t>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.25)} = -.50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valuating the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] values: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N[-.25]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= .4013 and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N[-.50]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= .3085 and exp{(.05)(.25)} = .9877, it is possible to solve for the Black-Scholes call option price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[.4013] -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[.9877] [.3085]  = 14.4468 - 12.1882 = $2.26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3" descr=""/>
          <p:cNvPicPr/>
          <p:nvPr/>
        </p:nvPicPr>
        <p:blipFill>
          <a:blip r:embed="rId1"/>
          <a:stretch/>
        </p:blipFill>
        <p:spPr>
          <a:xfrm>
            <a:off x="2286000" y="222120"/>
            <a:ext cx="4572000" cy="641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Evaluating the Cumulative Normal d.f.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umulative normal distribution functi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N[x]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provides the area under the normal density function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n[x]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at a given point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x ---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grate the area under the density function from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i="1" lang="en-US" sz="2600" spc="-1" strike="noStrike">
                <a:solidFill>
                  <a:srgbClr val="000000"/>
                </a:solidFill>
                <a:latin typeface="WP MathA"/>
                <a:ea typeface="WP MathA"/>
              </a:rPr>
              <a:t>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 x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 get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N[x]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alu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normal density function is sometimes referred to as the bell curv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N[0] = .5     N[+</a:t>
            </a:r>
            <a:r>
              <a:rPr b="0" i="1" lang="en-US" sz="2600" spc="-1" strike="noStrike">
                <a:solidFill>
                  <a:srgbClr val="000000"/>
                </a:solidFill>
                <a:latin typeface="WP MathA"/>
                <a:ea typeface="WP MathA"/>
              </a:rPr>
              <a:t>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] = 1    N[-</a:t>
            </a:r>
            <a:r>
              <a:rPr b="0" i="1" lang="en-US" sz="2600" spc="-1" strike="noStrike">
                <a:solidFill>
                  <a:srgbClr val="000000"/>
                </a:solidFill>
                <a:latin typeface="WP MathA"/>
                <a:ea typeface="WP MathA"/>
              </a:rPr>
              <a:t>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] = 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value of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N[x]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s the delta for a Black-Scholes call optio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1" descr=""/>
          <p:cNvPicPr/>
          <p:nvPr/>
        </p:nvPicPr>
        <p:blipFill>
          <a:blip r:embed="rId1"/>
          <a:stretch/>
        </p:blipFill>
        <p:spPr>
          <a:xfrm>
            <a:off x="614520" y="598320"/>
            <a:ext cx="7914960" cy="566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Garamond"/>
              </a:rPr>
              <a:t>Deriving Black-Scholes:  Basic Elements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lack-Scholes (1973) derivation requires some basic concepts (readings in brackets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lack-Scholes Assumptions (RSD, p.43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skless hedge portfolio (RSD, p.439-4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o’s Lemma (RSD, p.434-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undamental Partial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The Black-Scholes Assumptions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) Non-dividend paying stock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b) European option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)  The instantaneously riskless continuous interest rate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is constant over time (with a flat term structure)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d) The model has only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one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source of randomness, the single state variable, the price of the stock which follows a log-normal diffusion process.  This log normal process is defined only over S ε [0, </a:t>
            </a:r>
            <a:r>
              <a:rPr b="0" lang="en-US" sz="2100" spc="-1" strike="noStrike">
                <a:solidFill>
                  <a:srgbClr val="000000"/>
                </a:solidFill>
                <a:latin typeface="WP MathA"/>
                <a:ea typeface="WP MathA"/>
              </a:rPr>
              <a:t>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]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) No transactions costs or taxe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) No penalties on short selling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g) Riskless lending and borrowing at r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h) Continuous trading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)-h) are conventional perfect markets assumption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Riskless Hedge Portfolio and Arbitrage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ussion of pricing for futures and forward contracts used the cash-and-carry arbit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iskless hedge portfoli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used in Black-Scholes (1973) predates arbitrage arguments – the riskless hedge portfolio has a net investment of f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iskless hedge portfolio argument can be reconstructed as an arbitrage portfolio argument where the funds invested in the position are borrow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9T03:25:43Z</dcterms:created>
  <dc:creator>poitras</dc:creator>
  <dc:description/>
  <dc:language>en-US</dc:language>
  <cp:lastModifiedBy>reviewer</cp:lastModifiedBy>
  <cp:lastPrinted>2020-07-24T04:58:18Z</cp:lastPrinted>
  <dcterms:modified xsi:type="dcterms:W3CDTF">2020-11-22T08:29:11Z</dcterms:modified>
  <cp:revision>16</cp:revision>
  <dc:subject/>
  <dc:title>Lecture 11</dc:title>
</cp:coreProperties>
</file>