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C79-B9B5-41E5-86C7-F96B516F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398-900D-4675-A91A-F5BD5719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F17-5103-4354-B199-C283F38E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1AB-5734-4262-BFBE-FD3DD09E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DCA-1EC8-48BF-8BC3-7CEBA1D1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8B8-C81E-4CB9-A86F-D0C819F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C25-9435-4DDF-94A6-D6A21365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ED6-812E-485F-B03A-790B512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0F98-3A21-429F-A74D-97BBAF0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D5CB-EE3D-4F48-8EC9-D8DB5019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1B3E-E64B-42B9-80D6-FA6ADCE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405-81F9-4639-8707-1AA6FDC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5C7-6078-45C3-8655-B9267CB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D10-3DA2-4504-A080-742D3E7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5E3F-530A-4A21-B0F3-CEFE180B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D32D-FBC6-4010-9117-1711E603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BBC5-BB8F-4EE1-BDE0-08ED3D19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B54-71C1-4D38-A4DD-8DFCF90A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3BA-65AB-431C-B23C-42400A0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236-D714-4993-8153-33BB9CB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238-F263-4FBD-81ED-22C3E36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AC1-46E9-44E9-A078-92D7CCB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98F-5AE9-4F91-9DC5-ED60A7E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453-F00E-49B1-A623-2D68210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7ED-6552-44A1-8D0D-E985BF29B05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12F2-D2E6-40B3-97EA-FC9717365CB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ecture 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Round of Speculative Trades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ew of Covered Interest Arbitrage Discussion from Lecture 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id/Offer for Eurodollars; Explanation for WSJ Money Market Quo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026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cond Round Trades for G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50  one-to-one interest rate spreads (Euro$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urce of profit depends on change in yield curve shap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e RSD, p.279-81 for discussion of cash and carry arbitrages for money market secur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02852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mportant Feature of Eurodolla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cussion in RSD, p.28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der the cash and carry arbitrage for Eurodollars: the deliverable security is a 3 month Eurodollar and the financing rate is also a Eurodollar rate --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implication is that the Eurodollar futures rate equals the implied forward rate in the cash mark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heoretical Background for Second Round of Speculative Trad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One-to-One Futures Sprea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ey Reading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SD, p.177-18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itras, “Turtles, Tails and Stereos” (copy for download on class webpag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99"/>
                </a:solidFill>
                <a:latin typeface="Arial Narrow"/>
              </a:rPr>
              <a:t>One-to-One Futures Spreads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Basic Profit Fun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/Q   = {F(0,N) - F(1,N)} + {F(1,T) - F(0,T)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= {F(1,T) - F(1,N)} - {F(0,T) - F(0,N)}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Key Point:  This result is f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SHORT the NEARBY, LONG the DEFERR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Futures Ba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fining the Implied Carry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(t,N,T) --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t cost of carry the commodity from N to 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F(t,T) </a:t>
            </a:r>
            <a:r>
              <a:rPr b="0" i="1" lang="en-US" sz="2800" spc="-1" strike="noStrike">
                <a:solidFill>
                  <a:srgbClr val="009999"/>
                </a:solidFill>
                <a:latin typeface="WP MathA"/>
                <a:ea typeface="WP MathA"/>
              </a:rPr>
              <a:t>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F(t,N) {1 + ic(t,N,T)}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s defined by the futures basi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ffers from commodity to commodity and is analyzed using the cash and carry arbitrage for the commodity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                                   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s of the </a:t>
            </a:r>
            <a:r>
              <a:rPr b="1" i="1" lang="en-US" sz="4800" spc="-1" strike="noStrike">
                <a:solidFill>
                  <a:srgbClr val="336699"/>
                </a:solidFill>
                <a:latin typeface="Arial Narrow"/>
              </a:rPr>
              <a:t>i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ld, Silver -- 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s interest char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bonds --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s interest carrying charges minus bond coupon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urrencies -- 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s (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 - r*) / (1 + r*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 for a discussion of the general factors that can impact th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ee RSD, p.220-3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026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evant Midterm Ques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. a) Derive the profit profile for a spread trade with equal position siz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 derive the profit profile, substitute the futures basis into the Basic Profit Function and solve to get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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/Q = ic(0)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F(N) + F(1,N)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ic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 = X(t) - X(t-1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025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ore On the Midterm Ques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at factors determine the profitability of this trade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bserve that the profit function now depends on two variables -- the change in the level of futures prices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F(N)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the change the implied carry </a:t>
            </a:r>
            <a:r>
              <a:rPr b="0" i="1" lang="en-US" sz="2800" spc="-1" strike="noStrike">
                <a:solidFill>
                  <a:srgbClr val="009999"/>
                </a:solidFill>
                <a:latin typeface="WP Greek Century"/>
                <a:ea typeface="WP Greek Century"/>
              </a:rPr>
              <a:t>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ic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does </a:t>
            </a:r>
            <a:r>
              <a:rPr b="1" i="1" lang="en-US" sz="4800" spc="-1" strike="noStrike">
                <a:solidFill>
                  <a:srgbClr val="336699"/>
                </a:solidFill>
                <a:latin typeface="WP Greek Century"/>
                <a:ea typeface="WP Greek Century"/>
              </a:rPr>
              <a:t></a:t>
            </a:r>
            <a:r>
              <a:rPr b="1" i="1" lang="en-US" sz="4800" spc="-1" strike="noStrike">
                <a:solidFill>
                  <a:srgbClr val="336699"/>
                </a:solidFill>
                <a:latin typeface="Arial Narrow"/>
              </a:rPr>
              <a:t> F 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ppea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llar Equivalence vs. Quantity Equivale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-to-one spread has quantity equivale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n prices for different delivery dates are not approximately equal then the trade will have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unequal dollar valu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on the two legs of the sprea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ortant extension to hedging strategies, e.g., Metallgesellschaft (RSD, p.58-60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009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cond Round Trades for G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50  one-to-one currency spreads (BP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urce of profit depends on change in difference between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r*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e RSD, p.284 for derivation of profit fun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1:53:00Z</dcterms:created>
  <dc:creator>maury poitras</dc:creator>
  <dc:description/>
  <dc:language>en-US</dc:language>
  <cp:lastModifiedBy>Faculty of Business</cp:lastModifiedBy>
  <dcterms:modified xsi:type="dcterms:W3CDTF">2004-01-26T17:51:05Z</dcterms:modified>
  <cp:revision>1</cp:revision>
  <dc:subject/>
  <dc:title>Lecture 4</dc:title>
</cp:coreProperties>
</file>