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578-2393-480C-BD4C-365C26B3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13D-CBEC-4C07-BDA4-634EC34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9EB-64B1-43DC-9FE8-CFB77FA7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5A6-A5AF-4590-9228-879D2ADF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96DE-005F-4227-BFCE-512254ED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F4FA-A51E-4388-B41B-F82B7A3C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9111-AB4C-466D-B89B-FD3C186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8401-D243-4C41-A3C9-7D4B5FAD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F25B-596C-4A3E-87A7-597081E5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C555-4137-4571-90B2-DD5FA583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0291-5FF8-45CB-BD68-16E2C7B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D8D-BA75-4657-8BF0-EA711654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5526-B2A2-4D1F-A156-4A7589A9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A603-9239-4556-8F52-C8EE724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92DE-5DE2-4A91-A0E5-73931A20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6B0-01DF-4690-8ACB-1F10064E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F2FF-CE24-42E9-8E73-D8069C3D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E61-B13D-4813-90AB-B1AF446F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D9A-27E7-481C-9C8B-27DA3066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BFA-BF1D-4984-81B9-078B10C0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D7B-DACA-4E79-936A-D2B952B6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07E-6BE7-44F0-B3D1-36BFA40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A17-B810-489B-9FD3-8983FB72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DFA-C66A-484A-934C-A1590A6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3DA6-3ED6-4C60-8118-BE27E70DB04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874-0599-4E09-B8C2-E66D36190BF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cture 5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More on Speculative Trading Strateg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ing the Sprea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utterflies and Tandem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ereos and Turt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ther Intercommodity Sprea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ntro to Hedging and Risk Managem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reos Defined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ailed spreads have a profit function of the form: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π(1) = F(1,N) Δ i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ereos are intercommodity trades where the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F(1,N) Δ ic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F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 one commodity is traded against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G(1,N) Δ ic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G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 another commodity to produce profit function of the form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π(1) = Δ ic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F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 - Δ ic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ing: RSD, p.263-9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reo Exampl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idterm Question 2c): 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Assume that you are convinced that the spread between the implied carry return in gold futures will narrow relative to the return implied in silver futures.  How would you design a trade to profit on your predictive ability in this case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The solution to this question is a metal stereo.  The question is asking the (S/L) positions in each commodity and th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hedge ratio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Reading: RSD, p.272-73 for calculating basis point value needed to determine the hedge ratio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Turtles Defined and Exampl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turtle trade is constructed to speculate on the difference between the interest carrying charge in a (tailed) spread and some reference interest r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xamples: a) gold ic vs. Eurodollar (see Fig. 5.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) Implied repo rate (irr) in Tbonds vs. Tbills or Fed funds (Note: this requires a different tailing procedure, see RSD, p.267-9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440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Turtles Extended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is possible to extend the notion of turtles to trades that combine a tailed spread in one commodity with a naked position in another commodit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Midterm Question 2b):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What factors determine the profitability of: a copper turtle trade? (Reading: RSD, p.274-6).  This question involves setting the correct hedge ratio to find the implied interest rat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Other Intercommodity Spread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ny possible variations for intercommodity spread trad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duction Spread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profitability depends on predicting changes in production relationshi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xamples: Soy Crush spread; Feeder cattle spread; Oil Crack spread; Electricity Spark sprea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More Intercommodity Spread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ED Spread – (T)reasury Bills against (E)uro(D)olla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ED trade can be done as a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redit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pread, combining naked positions in bills and euro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ED can also be done as a tandem where differing rates of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rbitrage convergence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termine profitabi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ing: RSD, p.276-282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Intro to Hedging and Risk Mgmt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ill examine both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heor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actice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f corporate risk managem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idterm Exam question #3 deals with theory.  Three elements to consider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)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quilibri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properties of derivative market with hedgers and speculator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) What is the optimal hedge ratio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)  What are the rationales for risk mgmt.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Midterm Exam Question #3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sample midterm question will be changed to merge 3a) and 3b) and a new section will be added that deals with the rationales for corporate risk management and hedg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ading: RSD, p.99-103 (review); p.111-116(equilibrium and optimal hedging_; p.139-51 (risk management rationales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ailing the Sprea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dterm Question 2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Derive the profit profile for a tailed spread and explain how this trade is different from one with one-to-one position siz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ailed spread is dollar equivalent not quantity equivale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ing: RSD, p.181-191; Poitras (1997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Tailed Spread Profit Fun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ailed spread profit function i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π(1) = {F(0,N) - F(1,N)} Q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+ {F(1,T)-F(0,T)} Q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order to be dollar equivalent on the two legs of the spread the following condition has to be satisfied: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Q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F(0,N) = Q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F(0,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solve this let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Q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T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 1 to get the result that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Q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{F(0,T) / F(0,N)} = {1 + ic(0)}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lving the Profit Func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bstituting the restriction on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Q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into the profit function and using the cash and carry arbitrage condition gives the final form of the profit function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π(1) = F(1,N) Δ i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mpare to the one-to-one case and observe tha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impact of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ΔF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as been eliminat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te:  Some tails are not dollar equivalent (e.g., RSD, p.26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Comparing tailed and untailed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idterm Question 2a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Does your answer depend on the commodity under consideration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Tailed and untailed spreads will be the same when there is no need to tail.  When does this happen and for what commoditie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Butterfli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‘butterfly’ is used to describe both an options strategy and a futures strategy (same word, different trades).  Reading, RSD, p.263-5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profit function for a quantity equivalent butterfly i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π/Q = [{F(1,T)-F(1,N)} - {F(0,T)-F(0,N)}]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+ [{F(1,T)-F(0,T*)} - {F(0,T)-F(0,T*)}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= {F(0,N)-F(1,N)} + 2{F(1,T)-F(0,T)} + {F(0,T*)-F(1,T*)}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ere N is nearby, T is intermediate and T* is deferre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More on the butterfly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butterfly can be conceptualized as a ‘spread of spreads’ – a short (long) ‘nearby’ one-to-one spread is combined with a long (short) deferred one-to-one spread (where a short spread is short the nearby, long the deferred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t is possible to create dollar equivalent butterflies – making it possible to derive the profit function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π/Q = F(1,N) Δ ic(N,T) - F(1,T) Δ ic(T,T*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andems: Intercommodity Butterflie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tandem is a butterfly where the spreads are in different commoditi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nlike the butterfly where the problem of dollar equivalence is generally not an issue, the tandem requires a ‘hedge ratio’ to be determined – i.e., the number of spreads in one commodity relative to the other commodity sprea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Tandem Profit Fun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tandem profit function i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π = {Q1 [F(1,T)-F(1,N)] - Q2 [G(1,T)-G(1,N)]}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-{Q1 [F(0,T)-F(0,N)] - Q2 [G(0,T)-G(0,N)]}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lving this gives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Π* = Δ ic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F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– (Q2 G(1,T)/ Q1 F(1,T)) Δ ic</a:t>
            </a:r>
            <a:r>
              <a:rPr b="0" i="1" lang="en-US" sz="24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ing:  RSD, p.265-6 and p.284-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7:56:05Z</dcterms:created>
  <dc:creator>Faculty of Business</dc:creator>
  <dc:description/>
  <dc:language>en-US</dc:language>
  <cp:lastModifiedBy>Faculty of Business</cp:lastModifiedBy>
  <dcterms:modified xsi:type="dcterms:W3CDTF">2004-01-29T19:38:39Z</dcterms:modified>
  <cp:revision>7</cp:revision>
  <dc:subject/>
  <dc:title>Lecture 5</dc:title>
</cp:coreProperties>
</file>