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0442-0039-4225-84FE-484270381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6311-6E3B-437D-A84B-3B93D5A3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4AE2-889C-4DE9-88CB-B34D81756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57D3-979B-4619-A722-D9AC60428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A773-3127-4FA3-A872-DB9CCF11A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8B9C5-AB5C-40E0-A9B4-01D944D3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F48C-1811-464A-9376-99B54537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66E4-F643-4300-AAB1-9D24CE91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127B-A681-4E20-810D-06023AD2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8D5E-CD8B-426E-A38D-6BDBCB80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1F2B-BC4D-457E-9917-74AA250E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C0CE-DB93-449B-955A-118C4E01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9217-4231-4B68-B821-FE0697F9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7D34-A060-4CE3-AFA2-2A976923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9CE89-936D-4BF5-9F7A-1E4B416F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CE6A-475A-473B-BD0A-1CE661837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B9ED8-7C69-4094-8264-80B3145CA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F7A9-40CE-455E-88B0-C356A5AA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4F54-58AF-4802-9C13-384DEC5D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6456-F3D2-404B-BBA4-266427E5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5CDC-3D23-42C5-894A-BD3A3BAF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4B85-69B5-4718-A332-24956DF2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B529-29C3-4B73-9189-AFCCE483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8AF9-F99C-4288-8AE8-436CF3DD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A6B4-0645-4A52-A927-06020868E8C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CFF2-2551-4179-84C6-AD0A39BAC36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Lecture 6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sics of Risk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s Risk Managemen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ypes of Risk and Measuring Ris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tionales for Corporate Risk Mgm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ategic and Enterprise Wide Risk Mgm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ethods of Managing Ris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de  Round #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nection to Class Presenta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ganizational structure of risk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sible questions to as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how is the risk management process conducted within the company?  Is there a risk management officer?  Is this officer a member of the board?  Are there subcommittees of the board dealing only with risk management issu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Methods of Managing Risk</a:t>
            </a:r>
            <a:br>
              <a:rPr sz="3400"/>
            </a:b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actuarial science approac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 Deals with insurance risk where the random variable of interest is a loss function taking a value of either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X(t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the size of the loss) or zero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sk can be avoided; risk can be transferred; risk can be shared; risk can be reduced; and risk can be retain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ing:  RSD, p.120-2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isk vs. Uncertainty Revisite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siness risks are encountered in financial activities.  Such risks take both positive and negative valu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ight (1921) recognizes that business risk has an objectively measurable component,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ris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nd a component that can only be determined subjectively,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uncertaint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rectly dealing with uncertainty is a source of entrepreneurial prof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ore on Class Presenta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Other questions to as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Is the risk management process seen to be a source of profit or competitive advantage, e.g., Barrick Gold?  Is there a coherent statement of the firm’s risk management philosophy, e.g., in the MD&amp;A?  If there is such a statement, include this in the present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ing:  RSD, p.151-6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6633"/>
                </a:solidFill>
                <a:latin typeface="Garamond"/>
              </a:rPr>
              <a:t>Basics of Risk Management</a:t>
            </a:r>
            <a:br>
              <a:rPr sz="3500"/>
            </a:b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Risk Manag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: RSD, p.129-1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 management is a vast subject, covering many fields, e.g., medicine,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inance, “risk management” usually refers to management of financial risks (see list of these risks, RSD, p.1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6633"/>
                </a:solidFill>
                <a:latin typeface="Garamond"/>
              </a:rPr>
              <a:t>Types of Risks to be Managed</a:t>
            </a:r>
            <a:br>
              <a:rPr sz="3500"/>
            </a:b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general business risk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risks specific to the industry or market of interest also referred to a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ommercial ris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ancial and commodity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market risk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ssociated with changes in prices for equities, exchange rates, interest rates and commod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credit and liquidity risk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operational risk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that can include inadequate management control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legal risk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e.g. contract enforc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6633"/>
                </a:solidFill>
                <a:latin typeface="Garamond"/>
              </a:rPr>
              <a:t>Types of Risk and Measuring Risk</a:t>
            </a:r>
            <a:br>
              <a:rPr sz="3500"/>
            </a:b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sk versus Uncertaint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quote from Knight on RSD, p.1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: RSD, p.116-12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 is associated with measurable probability while uncertainty is not measur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racteristics of Risks to be Mana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risk management differs from actuarial science (insurance risk management) in having the element of pro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6633"/>
                </a:solidFill>
                <a:latin typeface="Garamond"/>
              </a:rPr>
              <a:t>How to Measure Risk?</a:t>
            </a:r>
            <a:br>
              <a:rPr sz="3500"/>
            </a:b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possible methods to measure risk, e.g., standard deviation of re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lue at Ris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ead RSD, p.122-9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at Risk (VaR) or some variant is a required risk measurement methodology mandated by the capital adequacy standards for depository institutions initially set out in the Basle Accord of 198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 is examined in BUS 4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Accounting vs. Economic Exposur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key element in the development of a risk management philosophy;  Reading: RSD, p.151-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ounting expos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asures on a transaction by transaction basis.  This approach is reflected in conventional textbook presentations of a risk management involving derivatives that assumes that there is only one transaction of intere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onomic expos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asures attempt to assess the impact of a specific financial or commodity price on the firm’s net cash flow.  (Possible to run regression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Rationales for Corporate Risk Mgmt.</a:t>
            </a:r>
            <a:br>
              <a:rPr sz="3400"/>
            </a:b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BUS 312 (and other courses) the primary corporate objective is identified as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ximize the expected utility of the end-of-period wealth of sharehol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guments Against Corporate Risk Mgm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gliani-Miller irrelevance arg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M arg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Return Arg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: RSD, p.142-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Rationales for Corporate Risk Mgmt. (cont’d)</a:t>
            </a:r>
            <a:br>
              <a:rPr sz="32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guments in Favor of Corporate Risk Mgm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xation of Perfect Markets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kruptcy Costs, e.g., reduces discount rate in NPV 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arguments: ownership structure, real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: RSD, p. 148-5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Strategic and Enterprise Wide Risk Mgmt.</a:t>
            </a:r>
            <a:br>
              <a:rPr sz="3400"/>
            </a:b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Strategic Risk Manag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trategic risk management is the process of identifying, implementing and monitoring systems for managing  the range of risks confronting the fir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consulting industry (CI), strategic risk management corresponds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erprise-wide risk management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I refits often emphasize decision support systems, IT meth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2T21:31:19Z</dcterms:created>
  <dc:creator>Faculty of Business</dc:creator>
  <dc:description/>
  <dc:language>en-US</dc:language>
  <cp:lastModifiedBy>Faculty of Business</cp:lastModifiedBy>
  <dcterms:modified xsi:type="dcterms:W3CDTF">2004-02-05T18:23:03Z</dcterms:modified>
  <cp:revision>7</cp:revision>
  <dc:subject/>
  <dc:title>Lecture 6</dc:title>
</cp:coreProperties>
</file>