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7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27A-C888-4D00-B457-06B5864A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090-B1D1-473E-AFD7-845DCA4F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DA6-943D-4CEA-A6A2-CD332AE6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2C5-B61E-48BF-A573-599C67A1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1AEE-D0ED-4EC4-90B6-03BBDF91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4D87-F56D-4A58-B8D0-493BE0E2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7EE3-1EE1-4F0D-8998-0FB1E09E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679A-2CDC-40AA-A1AE-9EF64C66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F5CD-88CA-4FAE-8F6E-178B2297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75D9-E9F8-4463-89CE-47048740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E42D-C8ED-43BA-B320-32E1447B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C52-484B-421A-B96A-0B34996B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B2AC-D796-47AC-A8D9-9C956288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A40C-CE40-46C6-B73B-BFD1167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9E17-BD99-48DF-95AE-8FC840ED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7FE7-38F7-481A-B471-182E0197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E536-F3A8-48A3-93DC-CEFED83B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92B-BE63-4475-8DC5-2266B1C8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3CA-A3B6-4EBC-9536-F1244D6E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EFB-BBE9-4E08-90E0-B8D3313F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051-40C4-4AAF-87F7-E1598058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682-284B-4140-AB17-2577E364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F99-E4BB-4680-96E5-EFCA1638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1FA-1285-4D15-8982-620FF167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Rectangle 7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AutoShape 8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AutoShape 9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7AAB-CAD7-4C78-9220-28E29F3A37E5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Rectangle 8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AutoShape 9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AutoShape 10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28E8-DB66-4407-9C72-511613133D89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ecture 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Basis Relationship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sence of Arbitra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Cash and Carry Arbitra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Covered Interest Arbitra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10267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bsence of Arbitrag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What is an arbitrage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arbitrag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opportunity is defined here as: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a riskless trading strategy that generates a positive profit with no net investment of funds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Key words: riskless and trading strategy.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009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 Arbitrage Condi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fundamental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heoretical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quirement of pricing in financial markets is that there is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NO ARBITRAGE OPPORTUN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 terms of the profit function, this condition is expressed as </a:t>
            </a:r>
            <a:r>
              <a:rPr b="0" i="1" lang="el-G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9999"/>
                </a:solidFill>
                <a:latin typeface="Arial"/>
              </a:rPr>
              <a:t>arb</a:t>
            </a:r>
            <a:r>
              <a:rPr b="0" i="1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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&lt; 0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can also be a weak inequality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0267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me Possible Confus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o not confuse 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No Arbitrage Condi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ere </a:t>
            </a:r>
            <a:r>
              <a:rPr b="0" i="1" lang="el-G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9999"/>
                </a:solidFill>
                <a:latin typeface="Arial"/>
              </a:rPr>
              <a:t>arb</a:t>
            </a:r>
            <a:r>
              <a:rPr b="0" i="1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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&lt; 0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th the profit function for a speculative trade where </a:t>
            </a:r>
            <a:r>
              <a:rPr b="0" i="1" lang="el-G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(1)</a:t>
            </a:r>
            <a:r>
              <a:rPr b="0" i="1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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&gt; 0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s the desired result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arbitrage profit function is time dated as </a:t>
            </a:r>
            <a:r>
              <a:rPr b="0" i="1" lang="el-GR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</a:t>
            </a:r>
            <a:r>
              <a:rPr b="0" i="1" lang="en-US" sz="2800" spc="-1" strike="noStrike" baseline="-25000">
                <a:solidFill>
                  <a:srgbClr val="009999"/>
                </a:solidFill>
                <a:latin typeface="Arial"/>
              </a:rPr>
              <a:t>arb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(0)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o reflect all variables in the profit function being known at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=0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needed for riskless trading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0152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ypes of Arbitrag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type of arbitrage that is most important in the analysis of derivative securities is the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cash and carry arbitrag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ther types of arbitrage include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riangular Arbitrage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RSD, p.237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Geographical Arbitrag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– price of goods in different locations differ only by the cost of purchasing and transporting, e.g., cement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istory of Arbitrag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n the history of the concept and definition of arbitrage see Poitras,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Early History of Financial Economics 1478-1776,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.243-7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word arbitrage has a Latin root, e.g., ‘arbitrio’ in Italian and initially referred to trading strategies aimed at profiting from differences in exchange rate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rbitrage was active in 16</a:t>
            </a:r>
            <a:r>
              <a:rPr b="0" lang="en-US" sz="28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C. Antwerp and has roots in antiquity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ash and Carry Arbitrag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ading: RSD, p.213-220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Cash and Carry Arbitrage is the fundamental arbitrage applicable to derivative securities traded on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torable commoditie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Key Point: there are two arbitrages for any derivative contract – 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hort arbitrage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nd 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long arbitrag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Case of Gold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short and long arbitrages are referenced to the position in the spot commod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long gold arbitrage (RSD, p.216) involves borrowing money to buy gold and simultaneously selling the gold for forward delive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olving the profit function for the long arbitrage gives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F(0,T) &lt; S(0) {1 + r(0,T)}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ore on the Gold Arbitrag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long arbitrage provides an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upper boun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on gold forward prices while the short arbitrage provides a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lower boun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lving the profit function for the short arbitrage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F(0,T) &gt; S(0) {1 + i(0,T)}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tice that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i(0,T)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s an investing rate and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r(0,T)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s a borrowing rat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asis Relationship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lly, basis is the difference between two pric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udy of basis relationships was important in analysis of derivative securities prior to the financial futures ‘revolution’ (see Lecture 1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ieronymous,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he Economics of Futures Trading (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977) is an excellent example of the traditional approac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ash and Carry Arbitrage Condition for Gol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der perfect markets assumptions, lending and borrowing rates will be equal (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i = r)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and the short and long arbitrage restrictions reduce to the cash and carry arbitrage condition for gold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F(0,T) = S(0) {1 + r(0,T)}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old forward/ futures prices will be in contango. Examine the NYMEX/COMEX prices on CME website (also RSD, Fig. 4.1, p.217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olving for the Gold Futures-Futures Condition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903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 the case of gold, if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F(t,T) = S(t) {1 + r(t,T)}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nd 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F(t,N) = S(t) {1 + r(t,N)}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n dividing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F(t,T)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y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F(t,N)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give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F(t,T) = F(t,N) {1 + r(t,T-N)}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1 + r(t,T-N) =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{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1 + r(t,T)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} / {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1 + r(t,N)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r example if 0 to T is 6 months and 0 to N is 3 months, then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1 + r(t,T-N)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s a 3 month interest rate that starts at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nd matures at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2616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olving for the General Futures-Futures Condition with Implied carry (</a:t>
            </a:r>
            <a:r>
              <a:rPr b="1" i="1" lang="en-US" sz="3600" spc="-1" strike="noStrike">
                <a:solidFill>
                  <a:srgbClr val="336699"/>
                </a:solidFill>
                <a:latin typeface="Arial Narrow"/>
              </a:rPr>
              <a:t>ic(t,T)</a:t>
            </a: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)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77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Gold is unusual in havin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o carry return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, either pecuniary or a non-pecuniary convenience yield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re generally, the relationship between spot and futures/forward prices has both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rry cost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c(t,T)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d a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carry retur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r(t,T))  </a:t>
            </a:r>
            <a:r>
              <a:rPr b="0" i="1" lang="en-US" sz="24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ic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t,T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) =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cc(t,T) - cr(t,T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This produces the general results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F(t,T) = S(t) {1 + ic(t,T)}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F(t,T) = F(t,N) {1 + ic(t,T-N)}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2809800" y="0"/>
            <a:ext cx="352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vered Interest Arbitrag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cash and carry arbitrage for currencies is given a special name: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vered interest arbitrag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vered interest arbitrage is based on the notion that,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in markets where arbitrage is active and unrestricted, securities that differ only by currency of denomination should exhibit fully hedged returns that are approximately equ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History and Background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istorically, forward trading of currencies was usually bundled together with a loan to form a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bill of exchang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– money is borrowed (lent) in one location, in a given currency, and repaid (redeemed) in another location using a different currency.  Reading: Poitras (2000, ch.7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ading on covered interest arbitrage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istory, RSD, p.224-6; Arbitrage Trades,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SD, p.226-40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(those unfamiliar with CIP go over example on p.227-8)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547560"/>
            <a:ext cx="914400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260360" y="0"/>
            <a:ext cx="662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ypes of Basi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ading RSD, p.191-20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ocation Basis, e.g., the Vancouver-Thunder Bay Canola basis (see Fig. 3.6-7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uality Basis, e.g., Columbian-Brazilian coffee basis (see Fig. 3.5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turity Basis and Delivery Bas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1744560"/>
            <a:ext cx="914400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1581120" y="0"/>
            <a:ext cx="59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Exchange Rates and the Domestic Country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o implement th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vered interest parity condition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it is necessary to identify which country is the domestic and which is the foreign.  (See RSD, Fig. 4.2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bserve that FX rates can be quoted in ratio form either as $US/$C = .7497 or $C/US$ = 1.3339 – the currency on top in the FX ratio is the domestic currenc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ote: different methods are used to quote the FX rate (e.g., in East Asia the convention is reversed)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he Short Arbitrage Condi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hort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condition refers to borrowing in the domestic currency and lending offshore, fully covering the currency exposur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arbitrage profit function for the short arbitrage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</a:t>
            </a:r>
            <a:r>
              <a:rPr b="0" i="1" lang="en-US" sz="2800" spc="-1" strike="noStrike" baseline="-25000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(0) = F(0,1){$Q/S(0)}(1+r*) - Q (1+r) &lt; 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ere,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s a borrowing rate and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r*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s a lending rat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54288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The Long Arbitrage Condition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long arbitrage involves borrowing offshore and investing domestic, fully covering the currency exposur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long arbitrage condition i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</a:t>
            </a:r>
            <a:r>
              <a:rPr b="0" i="1" lang="en-US" sz="2800" spc="-1" strike="noStrike" baseline="-25000">
                <a:solidFill>
                  <a:srgbClr val="009999"/>
                </a:solidFill>
                <a:latin typeface="Arial"/>
              </a:rPr>
              <a:t>L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(0) = Q (1+y) - F(0,1){$Q/S(0)}(1+y*)  &lt; 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ere y is an investing rate and y* is a borrowing rat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Foreign Exchange Swap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discussion of covered interest arbitrage assumes that the trader will do a spot exchange transaction and (simultaneously) a forward exchange transaction to cover the future currency exposur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s discussed in Lecture 2 (see RSD, Fig. 1.4) in practice, to reduce transactions costs, these two trades are done as one trade known as a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oreign exchange swap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525600" y="0"/>
            <a:ext cx="80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vered Interest Parity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bserving that the long (short) arbitrage condition bounds the forward rate above (below), imposing perfect market assumptions produces th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vered interest parity condition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F(0,T)  = </a:t>
            </a:r>
            <a:r>
              <a:rPr b="0" i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1 + r(0,T)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  S(0)  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1 + r*(0,T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ercise: Solve this equation for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r(0,T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n the lhs to provide a more revealing connection to the terminology ‘covered interest parity’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720" y="685800"/>
            <a:ext cx="8382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olving for the Covered Parity Condition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The solution demonstrates that the domestic interest rate (</a:t>
            </a:r>
            <a:r>
              <a:rPr b="1" i="1" lang="en-US" sz="2800" spc="-1" strike="noStrike">
                <a:solidFill>
                  <a:srgbClr val="336699"/>
                </a:solidFill>
                <a:latin typeface="Arial Narrow"/>
              </a:rPr>
              <a:t>r(0,T)) 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s equal to the fully hedged foreign rate interest rate (</a:t>
            </a:r>
            <a:r>
              <a:rPr b="1" i="1" lang="en-US" sz="2800" spc="-1" strike="noStrike">
                <a:solidFill>
                  <a:srgbClr val="336699"/>
                </a:solidFill>
                <a:latin typeface="Arial Narrow"/>
              </a:rPr>
              <a:t>r*(0,T)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) where the second term on rhs is the cost of hedge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90600" y="2819520"/>
            <a:ext cx="8496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ontango versus Backwardation in Currency Future and Forward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3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0,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) = (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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F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0,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f 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0,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-N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&gt; r*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0,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-N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 then </a:t>
            </a:r>
            <a:r>
              <a:rPr b="0" lang="el-G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&gt; 0 and futures price term structure is in contango for CME futures prices (where US is the domestic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ample:  US rates are above Yen rat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f 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0,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-N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&lt; r*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0,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-N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 then </a:t>
            </a:r>
            <a:r>
              <a:rPr b="0" lang="el-G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&gt; 0 and futures price term structure is in backward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ample:  US rates are below Aussie rat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517760" y="0"/>
            <a:ext cx="61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530360" y="0"/>
            <a:ext cx="608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Sample Midterm Question #1c)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On March 1, 1990 the spot and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3 month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forward rates for the  Canadian dollar (per US dollar) were $1.1922 and $1.2072 respectively.  What "risk-free"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discount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rate on U.S. dollar instruments would be consistent with the interest-rate-parity theorem if the 3 month (annualized) risk-free rate on Canadian dollar instruments was 13.10%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se the CIP equation to solve.  Remember that US discount rates have to be converted from the true yield (this is BUS 315).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What interest rate for the CIP equation?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amine Money Rates in RSD, Fig. 4.4 and the money rate handouts from WSJ and Fin. Post.  Observe there are a number of possible money market interest rates that could be used in the CIP formula: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reasury bills, commercial paper, eurodollar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ankers’acceptance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idterm Question #1b) asks which of these rates is most appropriate.  (Review from BUS 315, also RSD, p.238-9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ee Slides in lecture 4 .zip file for Board of Governors BofG_interest-rate.pdf) and Bank of Canada (419_bofc_wfs.pdf) information on money market and other fixed income markets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(too big to get on slides).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Money Market Securitie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 deciding which rate is appropriate, consider the execution of the covered interest arbitrage trade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reasury bills – the actively quoted securities are issued b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ederal government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– is it possible to borrow in this market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mmercial paper – unsecured liabilities issued b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rporation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– two types: corporate paper and financial pape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Money Market Securities (cont’d)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rporate commercial paper is typically a program-based borrowing that has an allowable maximum borrowing limit and involves a dealer making markets in the security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ough there is some flexibility in altering amounts outstanding, commercial paper is not a security that can be used to rapidly access large amounts of funds for arbitrag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oney Market Securities (cont’d ..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ankers’ acceptances are a secured liability issued by financial institutions, secured by an underlying goods transaction.  (Mexican pancho example in class used to illustrate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ke commercial paper, it is difficult to rapidly increase the amount of bankers’ acceptances outstanding to exploit arbitrage opportunitie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Eurodollars and CIP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entities are the most important in the market for spot and forward exchange?  The large international banking institutions, e.g., Citibank, Lloyds Bank, RBC, JPM Chase, etc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ere do these entities go to borrow (lend) large sums of funds at short notice?  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urodepos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et.  The key US$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orrowing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ate in this market is LIBOR: the (L)ondon (I)nter(b)ank (O)ffer (R)ate </a:t>
            </a:r>
            <a:r>
              <a:rPr b="0" lang="en-US" sz="28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OFR (see readings on webpage)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ore on Eurodolla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eurodollar deposit is an unsecured, non-negotiable liability issued in the (Eurodeposit) interbank market by an international financial institution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cess to the interbank market is restricted to large international financial institutions that regularly operate in this market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o not confuse the “Euro” currency with the Eurodeposit market – the borrowing rate in Euros i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uribo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Sample Midterm Question #1d)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covered interest arbitrage discussion on RSD, p.231-40 (and the associated covered interest parity condition) assumes that money market securities are being use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Key features of money market securities: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zero coupon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maturities of one year and les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ere the forward rate is for more than one year then the arbitrage involves coupon securities (RSD, p.245-51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7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Fig 3.5 </a:t>
            </a:r>
            <a:endParaRPr b="1" lang="en-US" sz="1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00" name="Content Placeholder 3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5943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asis Defini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he Basi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: 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F(t,T) - S(t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he Futures Basi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: 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F(t,T) - F(t,N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tice that as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changes, then the carrying charges embedded in the basis will decline due to the reduction in (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-t)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while the carrying charges in the futures basis will not decline because (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T-N)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oes not chan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ore on the Futures Basi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efinitions Applicable to the Futures Bas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tango: 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F(t,T) - F(t,N) &gt; 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ample: Gol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ackwardation: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F(t,T) - F(t,N) &lt; 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ample: Tbond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o not confuse this with the Normal Backwardation Hypothesis for 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Yiel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curv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0252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ore Basis Defini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he Future Basi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: 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F(0,T) - S(T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lso could be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F(1,T) – S(1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like the other types of basis, there is no agreed upon terminology for this basis.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s basis has to do with the accuracy of the forward/futures price as a predictor of the future spot price. (Reading RSD, p.165-171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3:51:12Z</dcterms:created>
  <dc:creator>maury poitras</dc:creator>
  <dc:description/>
  <dc:language>en-US</dc:language>
  <cp:lastModifiedBy>g poitras</cp:lastModifiedBy>
  <dcterms:modified xsi:type="dcterms:W3CDTF">2023-05-30T16:22:10Z</dcterms:modified>
  <cp:revision>49</cp:revision>
  <dc:subject/>
  <dc:title>Lecture 3</dc:title>
</cp:coreProperties>
</file>