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30A2-7915-439E-8E40-9EC21EEB5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2D7E-2FB6-41F2-B1C9-F6BEE3B27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0C642-489F-4175-9753-A91CFA70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C91F-C6F8-4A2C-B39E-08986014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BD5B-5A57-466D-8E5E-2C5D2758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634E-03B1-46A7-B910-86D609A06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FFCF-0C4E-4656-A114-7D78868D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0172-A3DA-428B-B66A-8E43D9DCC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BDBD-E273-4CF4-A43D-50DD8F75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6B51-3803-4586-90B0-3C809F23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1C74-8381-4CDA-BDA7-5CEE882AD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2AE2-19EA-481D-9873-13ECB695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ABEA-C192-4A02-8036-DF0900BD3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941400"/>
            <a:ext cx="7848720" cy="47466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mbina Pipeline  Mkt Cap. $13.47 B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711360"/>
            <a:ext cx="822960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1T15:41:51Z</dcterms:created>
  <dc:creator>gp</dc:creator>
  <dc:description/>
  <dc:language>en-US</dc:language>
  <cp:lastModifiedBy>gp</cp:lastModifiedBy>
  <dcterms:modified xsi:type="dcterms:W3CDTF">2015-07-21T18:00:53Z</dcterms:modified>
  <cp:revision>2</cp:revision>
  <dc:subject/>
  <dc:title>Inter Pipeline  Mkt Cap. $9.4 B.</dc:title>
</cp:coreProperties>
</file>