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EBDE-6AB1-4B2A-98FF-0E0A0D01E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9A4F-ED48-4941-8698-7D03F31BB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B313-5D9A-4489-87A9-8B852015B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1B0B-2BE3-4EAE-A4C5-B8606295F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5E6E0-DAF1-45CB-849B-C96AEC2D4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E6342-1CFF-43F5-86D5-6E839B18F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53CBD-C258-4B9D-A957-D6977E13F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8DB97-F1EC-4A3F-9CB8-C197BCDC1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CDA41-B121-4033-B3C4-0502411AC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38416-4458-43EA-BF5D-73C15FBEB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98580-35BD-457F-88E0-096D8943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42A2-9917-4C13-B90F-C43434E1B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4B050-D490-4AC7-996B-FABA0F78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9B03A-602E-407B-858B-EF454338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5655F-9B6D-4DB5-AACC-D2A86FF98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07FDF-9B10-4DCF-8B44-C9F5FBB0E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7AE5C-4087-4E57-AFFE-52B6DA2EE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29A6-99C7-4EAA-B4F2-E84DF032C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7069-070B-4E5B-A625-DB9094009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6A37-E91D-42F8-BA59-3840ECD41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E766-0123-48E3-89A9-BAB176936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50C8-94F1-4228-AFCE-F112E002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C5E2-3856-4E44-846E-41A0246E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6B3A-0661-43BC-B962-ED44CBC5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6e4f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1767c"/>
                </a:gs>
                <a:gs pos="100000">
                  <a:srgbClr val="cbd5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F8E56-4A79-4DCF-96F7-74020D711009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6e4f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1767c"/>
                </a:gs>
                <a:gs pos="100000">
                  <a:srgbClr val="cbd5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F9C68-89A1-48D1-9D4A-81E5ECD4B88F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outhernfinance.org/User/contactinfo.php?FetchID=2270" TargetMode="External"/><Relationship Id="rId2" Type="http://schemas.openxmlformats.org/officeDocument/2006/relationships/hyperlink" Target="http://www.southernfinance.org/User/contactinfo.php?FetchID=2270" TargetMode="External"/><Relationship Id="rId3" Type="http://schemas.openxmlformats.org/officeDocument/2006/relationships/hyperlink" Target="http://www.southernfinance.org/User/contactinfo.php?FetchID=1292" TargetMode="External"/><Relationship Id="rId4" Type="http://schemas.openxmlformats.org/officeDocument/2006/relationships/hyperlink" Target="http://www.southernfinance.org/User/contactinfo.php?FetchID=1292" TargetMode="External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iscussion:</a:t>
            </a:r>
            <a:br>
              <a:rPr sz="2800"/>
            </a:b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“Higher Order Greeks”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by:  </a:t>
            </a:r>
            <a:br>
              <a:rPr sz="3200"/>
            </a:br>
            <a:r>
              <a:rPr b="1" lang="en-US" sz="32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Louis H. </a:t>
            </a:r>
            <a:r>
              <a:rPr b="1" lang="en-US" sz="32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Ederington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and </a:t>
            </a:r>
            <a:r>
              <a:rPr b="1" lang="en-US" sz="3200" spc="-1" strike="noStrike" u="sng">
                <a:solidFill>
                  <a:srgbClr val="0000cc"/>
                </a:solidFill>
                <a:uFillTx/>
                <a:latin typeface="Times New Roman"/>
                <a:hlinkClick r:id="rId3"/>
              </a:rPr>
              <a:t>Wei</a:t>
            </a:r>
            <a:r>
              <a:rPr b="1" lang="en-US" sz="3200" spc="-1" strike="noStrike" u="sng">
                <a:solidFill>
                  <a:srgbClr val="0000cc"/>
                </a:solidFill>
                <a:uFillTx/>
                <a:latin typeface="Times New Roman"/>
                <a:hlinkClick r:id="rId4"/>
              </a:rPr>
              <a:t> Guan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12408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Discussant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Geoffrey Poitra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Faculty of Business Administra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Simon Fraser Universit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Burnaby, B.C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CANAD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Greeks and Series Expansion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s paper explores the properties of a multivariate Taylor series approximation for the Black-Scholes call option pric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ere are many possible expansions to use in  approximating func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dgeworth expansion, e.g., Corrado and Su (1996,JFR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Gram-Charlier expansion, e.g., Jondeau and Rockinger (2001,JEDC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olynomial Expansions, e.g., term structure model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Fourier series expansion (?), decomposes into periodicities, e.g., time series analysi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More on Series Approximations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to’s lemma can be derived using a Taylor series argument (Ingersoll 1987)  </a:t>
            </a:r>
            <a:r>
              <a:rPr b="0" lang="en-US" sz="32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Ito processes provide the requirements needed to derive the total derivative of the stochastic functi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Black-Scholes is derived by employing Ito’s lemma to solve the value function equation for the riskless hedge portfolio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The fundamental PDE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Under the Black-Scholes assumptions, the call option price is the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function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that solves the boundary value problem associated with the fundamental PD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3429000"/>
          <a:ext cx="8196120" cy="21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429000"/>
                    <a:ext cx="819612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Expanding the Black-Scholes function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s derived, 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C = C[S,t; r,</a:t>
            </a:r>
            <a:r>
              <a:rPr b="0" i="1" lang="en-US" sz="3200" spc="-1" strike="noStrike">
                <a:solidFill>
                  <a:srgbClr val="003366"/>
                </a:solidFill>
                <a:latin typeface="WP Greek Century"/>
                <a:ea typeface="WP Greek Century"/>
              </a:rPr>
              <a:t>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where 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3366"/>
                </a:solidFill>
                <a:latin typeface="WP Greek Century"/>
                <a:ea typeface="WP Greek Century"/>
              </a:rPr>
              <a:t>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are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parameters.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 Because 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C, r, t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are observed, the function can be solved for </a:t>
            </a:r>
            <a:r>
              <a:rPr b="0" i="1" lang="en-US" sz="3200" spc="-1" strike="noStrike">
                <a:solidFill>
                  <a:srgbClr val="003366"/>
                </a:solidFill>
                <a:latin typeface="WP Greek Century"/>
                <a:ea typeface="WP Greek Century"/>
              </a:rPr>
              <a:t></a:t>
            </a:r>
            <a:r>
              <a:rPr b="0" i="1" lang="en-US" sz="3200" spc="-1" strike="noStrike" baseline="-25000">
                <a:solidFill>
                  <a:srgbClr val="003366"/>
                </a:solidFill>
                <a:latin typeface="Times New Roman"/>
              </a:rPr>
              <a:t>IV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e fundamental PDE holds exactly for this </a:t>
            </a:r>
            <a:r>
              <a:rPr b="0" i="1" lang="en-US" sz="2800" spc="-1" strike="noStrike">
                <a:solidFill>
                  <a:srgbClr val="003366"/>
                </a:solidFill>
                <a:latin typeface="WP Greek Century"/>
                <a:ea typeface="WP Greek Century"/>
              </a:rPr>
              <a:t></a:t>
            </a:r>
            <a:r>
              <a:rPr b="0" i="1" lang="en-US" sz="2800" spc="-1" strike="noStrike" baseline="-25000">
                <a:solidFill>
                  <a:srgbClr val="003366"/>
                </a:solidFill>
                <a:latin typeface="Times New Roman"/>
              </a:rPr>
              <a:t>IV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What does expanding 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C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n a Taylor series reveals about the properties of the function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e function itself is already known exactl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Expanding w.r.t. a parameter raises issu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Expansions and Parameters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C = C[S, t, </a:t>
            </a:r>
            <a:r>
              <a:rPr b="0" i="1" lang="en-US" sz="3200" spc="-1" strike="noStrike">
                <a:solidFill>
                  <a:srgbClr val="003366"/>
                </a:solidFill>
                <a:latin typeface="WP Greek Century"/>
                <a:ea typeface="WP Greek Century"/>
              </a:rPr>
              <a:t>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; r]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s requires a stochastic volatility model </a:t>
            </a:r>
            <a:r>
              <a:rPr b="0" lang="en-US" sz="32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a different functional form involving parameters associated with the volatility process is used to take the derivativ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C[S, t, r,</a:t>
            </a:r>
            <a:r>
              <a:rPr b="0" i="1" lang="en-US" sz="3200" spc="-1" strike="noStrike">
                <a:solidFill>
                  <a:srgbClr val="003366"/>
                </a:solidFill>
                <a:latin typeface="WP Greek Century"/>
                <a:ea typeface="WP Greek Century"/>
              </a:rPr>
              <a:t>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] </a:t>
            </a:r>
            <a:r>
              <a:rPr b="0" i="1" lang="en-US" sz="32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e function is complicated, no functional form available (well suited to series approximations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is paper explores this function using partial derivatives from the Black-Scholes formula to determine the coefficients in the Taylor seri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Interpreting the results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Results are useful in illustrating the accuracy of Black-Scholes derivatives in capturing changes in 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C[S, t, r,</a:t>
            </a:r>
            <a:r>
              <a:rPr b="0" i="1" lang="en-US" sz="3200" spc="-1" strike="noStrike">
                <a:solidFill>
                  <a:srgbClr val="003366"/>
                </a:solidFill>
                <a:latin typeface="WP Greek Century"/>
                <a:ea typeface="WP Greek Century"/>
              </a:rPr>
              <a:t>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Empirical results verify that, for the types of options being examined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is irrelevant and the actual function is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C[S, t, </a:t>
            </a:r>
            <a:r>
              <a:rPr b="0" i="1" lang="en-US" sz="2800" spc="-1" strike="noStrike">
                <a:solidFill>
                  <a:srgbClr val="003366"/>
                </a:solidFill>
                <a:latin typeface="WP Greek Century"/>
                <a:ea typeface="WP Greek Century"/>
              </a:rPr>
              <a:t>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ignificant results for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vega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derivatives has implications for the procedure used to determine the </a:t>
            </a:r>
            <a:r>
              <a:rPr b="0" i="1" lang="en-US" sz="2800" spc="-1" strike="noStrike">
                <a:solidFill>
                  <a:srgbClr val="003366"/>
                </a:solidFill>
                <a:latin typeface="WP Greek Century"/>
                <a:ea typeface="WP Greek Century"/>
              </a:rPr>
              <a:t></a:t>
            </a:r>
            <a:r>
              <a:rPr b="0" i="1" lang="en-US" sz="2800" spc="-1" strike="noStrike" baseline="-25000">
                <a:solidFill>
                  <a:srgbClr val="003366"/>
                </a:solidFill>
                <a:latin typeface="Times New Roman"/>
              </a:rPr>
              <a:t>IV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Expanding the Results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ry using derivatives from a stochastic volatility model or some other pricing model, e.g., an ABM model (Poitras 1998, JFM)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ry different methods for estimating </a:t>
            </a:r>
            <a:r>
              <a:rPr b="0" i="1" lang="en-US" sz="3200" spc="-1" strike="noStrike">
                <a:solidFill>
                  <a:srgbClr val="003366"/>
                </a:solidFill>
                <a:latin typeface="WP Greek Century"/>
                <a:ea typeface="WP Greek Century"/>
              </a:rPr>
              <a:t></a:t>
            </a:r>
            <a:r>
              <a:rPr b="0" i="1" lang="en-US" sz="3200" spc="-1" strike="noStrike" baseline="-25000">
                <a:solidFill>
                  <a:srgbClr val="003366"/>
                </a:solidFill>
                <a:latin typeface="Times New Roman"/>
              </a:rPr>
              <a:t>IV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ry using currency option sample </a:t>
            </a:r>
            <a:r>
              <a:rPr b="0" lang="en-US" sz="32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Hull and White (1987, JIMF) show that vega effects in this market are substantia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3:01:07Z</dcterms:created>
  <dc:creator>gp</dc:creator>
  <dc:description/>
  <dc:language>en-US</dc:language>
  <cp:lastModifiedBy>gp</cp:lastModifiedBy>
  <dcterms:modified xsi:type="dcterms:W3CDTF">2005-11-11T22:09:59Z</dcterms:modified>
  <cp:revision>5</cp:revision>
  <dc:subject/>
  <dc:title>Discussion: “Higher Order Greeks”  by:  J. Cagle, D. Hyland and S. Johnson (CHJ)</dc:title>
</cp:coreProperties>
</file>